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17.wmf" ContentType="image/x-wmf"/>
  <Override PartName="/ppt/media/image8.jpeg" ContentType="image/jpeg"/>
  <Override PartName="/ppt/media/image12.png" ContentType="image/png"/>
  <Override PartName="/ppt/media/image7.png" ContentType="image/png"/>
  <Override PartName="/ppt/media/image1.jpeg" ContentType="image/jpeg"/>
  <Override PartName="/ppt/media/image15.wmf" ContentType="image/x-wmf"/>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2.jpeg" ContentType="image/jpeg"/>
  <Override PartName="/ppt/media/image19.png" ContentType="image/png"/>
  <Override PartName="/ppt/media/image3.jpeg" ContentType="image/jpeg"/>
  <Override PartName="/ppt/media/image14.png" ContentType="image/png"/>
  <Override PartName="/ppt/media/image4.jpeg" ContentType="image/jpeg"/>
  <Override PartName="/ppt/media/image18.wmf" ContentType="image/x-wmf"/>
  <Override PartName="/ppt/media/image5.jpeg" ContentType="image/jpe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083" name="PlaceHolder 1"/>
          <p:cNvSpPr>
            <a:spLocks noGrp="1"/>
          </p:cNvSpPr>
          <p:nvPr>
            <p:ph type="hdr"/>
          </p:nvPr>
        </p:nvSpPr>
        <p:spPr>
          <a:xfrm>
            <a:off x="0" y="0"/>
            <a:ext cx="29829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084" name="PlaceHolder 2"/>
          <p:cNvSpPr>
            <a:spLocks noGrp="1"/>
          </p:cNvSpPr>
          <p:nvPr>
            <p:ph type="dt" idx="76"/>
          </p:nvPr>
        </p:nvSpPr>
        <p:spPr>
          <a:xfrm>
            <a:off x="3898800" y="0"/>
            <a:ext cx="29829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085" name="PlaceHolder 3"/>
          <p:cNvSpPr>
            <a:spLocks noGrp="1"/>
          </p:cNvSpPr>
          <p:nvPr>
            <p:ph type="sldImg"/>
          </p:nvPr>
        </p:nvSpPr>
        <p:spPr>
          <a:xfrm>
            <a:off x="966600" y="743040"/>
            <a:ext cx="4951080" cy="37130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086" name="PlaceHolder 4"/>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7" name="PlaceHolder 5"/>
          <p:cNvSpPr>
            <a:spLocks noGrp="1"/>
          </p:cNvSpPr>
          <p:nvPr>
            <p:ph type="ftr" idx="77"/>
          </p:nvPr>
        </p:nvSpPr>
        <p:spPr>
          <a:xfrm>
            <a:off x="0" y="9408960"/>
            <a:ext cx="2982960" cy="49536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088" name="PlaceHolder 6"/>
          <p:cNvSpPr>
            <a:spLocks noGrp="1"/>
          </p:cNvSpPr>
          <p:nvPr>
            <p:ph type="sldNum" idx="78"/>
          </p:nvPr>
        </p:nvSpPr>
        <p:spPr>
          <a:xfrm>
            <a:off x="3898800" y="9408960"/>
            <a:ext cx="29829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CC94A-58B8-4D65-9936-FCDEFF5790F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966960" y="743040"/>
            <a:ext cx="4951080" cy="3713040"/>
          </a:xfrm>
          <a:prstGeom prst="rect">
            <a:avLst/>
          </a:prstGeom>
          <a:ln w="0">
            <a:noFill/>
          </a:ln>
        </p:spPr>
      </p:sp>
      <p:sp>
        <p:nvSpPr>
          <p:cNvPr id="1190"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uy buenos días 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sta primera intervención sobre la Acción 2 del Erasmus Mundus pretende mostrar de forma general los resultados que ha generado/y que está generando una Acción de cooparación de gran envergadura y ambición tal y como lo muestran sus resultados tangibles y los no ta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1"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93A1-473C-43F9-93F3-489285B0C2EB}"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66960" y="743040"/>
            <a:ext cx="4951080" cy="3713040"/>
          </a:xfrm>
          <a:prstGeom prst="rect">
            <a:avLst/>
          </a:prstGeom>
          <a:ln w="0">
            <a:noFill/>
          </a:ln>
        </p:spPr>
      </p:sp>
      <p:sp>
        <p:nvSpPr>
          <p:cNvPr id="1217"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s países agrupados bajo "Grupo A"  (Bolivia, Peru, Ecuador y Paraguay / Honduras, El Salvador, Guatemala, y Nicaragua), sin duda obliga a las universidades europeas a asociarse con los países menos desarrollados de Latin America, consiguiendo una buena cobertura geográfica!</a:t>
            </a:r>
            <a:endParaRPr b="0" lang="en-US" sz="1200" spc="-1" strike="noStrike">
              <a:solidFill>
                <a:srgbClr val="000000"/>
              </a:solidFill>
              <a:latin typeface="Arial"/>
            </a:endParaRPr>
          </a:p>
        </p:txBody>
      </p:sp>
      <p:sp>
        <p:nvSpPr>
          <p:cNvPr id="1218"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8ED0-D605-47B4-9289-003A1FBAC9B9}"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966960" y="743040"/>
            <a:ext cx="4951080" cy="3713040"/>
          </a:xfrm>
          <a:prstGeom prst="rect">
            <a:avLst/>
          </a:prstGeom>
          <a:ln w="0">
            <a:noFill/>
          </a:ln>
        </p:spPr>
      </p:sp>
      <p:sp>
        <p:nvSpPr>
          <p:cNvPr id="1220"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gional: contribución a estrechar las relaciones entre UE/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aís: se puede decir que el programa habría contribuido en la cohesión social de los países participantes gracias a la participación de estudiantes en desventaja economica y social además de los TG3 así como los provenientes se las instituciones situadas en los estados con menos índice de desarrollo. (requerimientos todos ellos establecidos en la convocatoria para proyecto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stitucion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número de acuerdos bilaterales de cooperación suscritos entre las universidades; las áreas de investigación conjuntas iniciadas con la movilidad de un académico y que luego dan pie a otras movilidades; los cientos de proyectos/colaboraciones conjuntas que se han producido como consecuencia del estímulo dado a los estudiantes de doctorado co-tutelados por profesores de universisdad de origen y destino;  son solo algunos ejemplos del impacto causado por este programa.</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Individual: experiencia personal, intercambio cultural, mejora en su carrera, mejor preparación, …etc</a:t>
            </a:r>
            <a:endParaRPr b="0" lang="en-US" sz="1200" spc="-1" strike="noStrike">
              <a:solidFill>
                <a:srgbClr val="000000"/>
              </a:solidFill>
              <a:latin typeface="Arial"/>
            </a:endParaRPr>
          </a:p>
        </p:txBody>
      </p:sp>
      <p:sp>
        <p:nvSpPr>
          <p:cNvPr id="1221"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0AA3-41F5-49D3-885E-21743C1E4ADE}"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966960" y="743040"/>
            <a:ext cx="4951080" cy="3713040"/>
          </a:xfrm>
          <a:prstGeom prst="rect">
            <a:avLst/>
          </a:prstGeom>
          <a:ln w="0">
            <a:noFill/>
          </a:ln>
        </p:spPr>
      </p:sp>
      <p:sp>
        <p:nvSpPr>
          <p:cNvPr id="1223"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e acuerdo con las conclusiones extraidas del informe del ROM (Monitoreo sobre los resultados a  medio plazo de los proyectos de AL), se pueden apreciar los siguientes resultados</a:t>
            </a:r>
            <a:endParaRPr b="0" lang="en-US" sz="1200" spc="-1" strike="noStrike">
              <a:solidFill>
                <a:srgbClr val="000000"/>
              </a:solidFill>
              <a:latin typeface="Arial"/>
            </a:endParaRPr>
          </a:p>
        </p:txBody>
      </p:sp>
      <p:sp>
        <p:nvSpPr>
          <p:cNvPr id="1224"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D14F-46DD-48A4-AED8-BDD742CC9970}"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966960" y="743040"/>
            <a:ext cx="4951080" cy="3713040"/>
          </a:xfrm>
          <a:prstGeom prst="rect">
            <a:avLst/>
          </a:prstGeom>
          <a:ln w="0">
            <a:noFill/>
          </a:ln>
        </p:spPr>
      </p:sp>
      <p:sp>
        <p:nvSpPr>
          <p:cNvPr id="1226"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resultado de la repartición de los diferentes tipos de movilidad corresponde con los porcentajes establecidos en la convocatoria. De este modo, por ejemplo, se observa que las estancias de movilidad en estudios de pregrado representa casi un 40% tal y como requerido en las convocatorias…</a:t>
            </a:r>
            <a:endParaRPr b="0" lang="en-US" sz="1200" spc="-1" strike="noStrike">
              <a:solidFill>
                <a:srgbClr val="000000"/>
              </a:solidFill>
              <a:latin typeface="Arial"/>
            </a:endParaRPr>
          </a:p>
        </p:txBody>
      </p:sp>
      <p:sp>
        <p:nvSpPr>
          <p:cNvPr id="1227"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4CC5-7EAF-4081-8092-C2E5AC7021A7}"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966960" y="743040"/>
            <a:ext cx="4951080" cy="3713040"/>
          </a:xfrm>
          <a:prstGeom prst="rect">
            <a:avLst/>
          </a:prstGeom>
          <a:ln w="0">
            <a:noFill/>
          </a:ln>
        </p:spPr>
      </p:sp>
      <p:sp>
        <p:nvSpPr>
          <p:cNvPr id="1229"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se beneficien de una beca EM deben ser latinoamericanos de cualquier país del Lote AL, en concreto: </a:t>
            </a:r>
            <a:br>
              <a:rPr sz="1200"/>
            </a:br>
            <a:r>
              <a:rPr b="0" lang="es-ES" sz="1200" spc="-1" strike="noStrike">
                <a:solidFill>
                  <a:srgbClr val="000000"/>
                </a:solidFill>
                <a:latin typeface="Arial"/>
              </a:rPr>
              <a:t>(TG1)/Grupo destinatario 1: tiene que estar registrado en uno de las universidades del partenariado. Mínimo 50% de la movilidad</a:t>
            </a:r>
            <a:br>
              <a:rPr sz="1200"/>
            </a:br>
            <a:r>
              <a:rPr b="0" lang="es-ES" sz="1200" spc="-1" strike="noStrike">
                <a:solidFill>
                  <a:srgbClr val="000000"/>
                </a:solidFill>
                <a:latin typeface="Arial"/>
              </a:rPr>
              <a:t>(TG2)/Grupo destinatario 2: registrado en una IES no incluida en el partenariado o haber obtenido un título universitario de una institución de estos países. Mínimo 20% de la movilidad</a:t>
            </a:r>
            <a:br>
              <a:rPr sz="1200"/>
            </a:br>
            <a:r>
              <a:rPr b="0" lang="es-ES" sz="1200" spc="-1" strike="noStrike">
                <a:solidFill>
                  <a:srgbClr val="000000"/>
                </a:solidFill>
                <a:latin typeface="Arial"/>
              </a:rPr>
              <a:t>(TG3)/Grupo destinatario 3: se debe encontrar en situaciones especialmente vulnerables, por razones sociales y políticas (por ejemplo, los solicitantes de la condición de refugiado o de asilo,  poblaciones indígenas o PDI). Mínimo 20% de la movilidad de AL debe de provenir de los países prioritatiros Grup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000000"/>
                </a:solidFill>
                <a:latin typeface="Arial"/>
              </a:rPr>
              <a:t>((Figures are based only on the implemented mobility so far!))</a:t>
            </a:r>
            <a:endParaRPr b="0" lang="en-US" sz="1200" spc="-1" strike="noStrike">
              <a:solidFill>
                <a:srgbClr val="000000"/>
              </a:solidFill>
              <a:latin typeface="Arial"/>
            </a:endParaRPr>
          </a:p>
        </p:txBody>
      </p:sp>
      <p:sp>
        <p:nvSpPr>
          <p:cNvPr id="1230"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C442-AC77-4B75-A0AF-F6CC16D43403}"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966960" y="743040"/>
            <a:ext cx="4951080" cy="3713040"/>
          </a:xfrm>
          <a:prstGeom prst="rect">
            <a:avLst/>
          </a:prstGeom>
          <a:ln w="0">
            <a:noFill/>
          </a:ln>
        </p:spPr>
      </p:sp>
      <p:sp>
        <p:nvSpPr>
          <p:cNvPr id="1232" name="PlaceHolder 2"/>
          <p:cNvSpPr>
            <a:spLocks noGrp="1"/>
          </p:cNvSpPr>
          <p:nvPr>
            <p:ph type="body"/>
          </p:nvPr>
        </p:nvSpPr>
        <p:spPr>
          <a:xfrm>
            <a:off x="687240" y="4704840"/>
            <a:ext cx="550872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3"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C97E-8AF8-418F-AC3F-609B3EB89A6C}"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966960" y="743040"/>
            <a:ext cx="4951080" cy="3713040"/>
          </a:xfrm>
          <a:prstGeom prst="rect">
            <a:avLst/>
          </a:prstGeom>
          <a:ln w="0">
            <a:noFill/>
          </a:ln>
        </p:spPr>
      </p:sp>
      <p:sp>
        <p:nvSpPr>
          <p:cNvPr id="1235"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lgunas universidades europeas son muy activas en este programa, son principalmente instituciones españolas, portuguesas, italianas y francesas por obvios motivos lingüísticos y de tradición pero también se observa la presencia importante de universidades latinoamericanas, Brazil…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l mimo tiempo es importante mencionar una ligera tendencia de cambio hacia otras universidades de países como Alemania, Holanda, Suecia con un 5% de acogida de estudiantes LA. En menor medida pero también interesantes son Polonia y Rep Checa quienes acogieron casi un 2% de las movil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A Host Ctr</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a:t>
            </a:r>
            <a:r>
              <a:rPr b="0" lang="en-GB" sz="1000" spc="-1" strike="noStrike">
                <a:solidFill>
                  <a:srgbClr val="000000"/>
                </a:solidFill>
                <a:latin typeface="Arial"/>
              </a:rPr>
              <a:t>	</a:t>
            </a:r>
            <a:r>
              <a:rPr b="1" lang="en-GB" sz="1200" spc="-1" strike="noStrike">
                <a:solidFill>
                  <a:srgbClr val="000000"/>
                </a:solidFill>
                <a:latin typeface="Calibri"/>
              </a:rPr>
              <a:t>42,74%</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X</a:t>
            </a:r>
            <a:r>
              <a:rPr b="0" lang="en-GB" sz="1000" spc="-1" strike="noStrike">
                <a:solidFill>
                  <a:srgbClr val="000000"/>
                </a:solidFill>
                <a:latin typeface="Arial"/>
              </a:rPr>
              <a:t>	</a:t>
            </a:r>
            <a:r>
              <a:rPr b="0" lang="en-GB" sz="1200" spc="-1" strike="noStrike">
                <a:solidFill>
                  <a:srgbClr val="000000"/>
                </a:solidFill>
                <a:latin typeface="Calibri"/>
              </a:rPr>
              <a:t>8,2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a:t>
            </a:r>
            <a:r>
              <a:rPr b="0" lang="en-GB" sz="1000" spc="-1" strike="noStrike">
                <a:solidFill>
                  <a:srgbClr val="000000"/>
                </a:solidFill>
                <a:latin typeface="Arial"/>
              </a:rPr>
              <a:t>	</a:t>
            </a:r>
            <a:r>
              <a:rPr b="0" lang="en-GB" sz="1200" spc="-1" strike="noStrike">
                <a:solidFill>
                  <a:srgbClr val="000000"/>
                </a:solidFill>
                <a:latin typeface="Calibri"/>
              </a:rPr>
              <a:t>7,90%</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a:t>
            </a:r>
            <a:r>
              <a:rPr b="0" lang="en-GB" sz="1000" spc="-1" strike="noStrike">
                <a:solidFill>
                  <a:srgbClr val="000000"/>
                </a:solidFill>
                <a:latin typeface="Arial"/>
              </a:rPr>
              <a:t>	</a:t>
            </a:r>
            <a:r>
              <a:rPr b="0" lang="en-GB" sz="1200" spc="-1" strike="noStrike">
                <a:solidFill>
                  <a:srgbClr val="000000"/>
                </a:solidFill>
                <a:latin typeface="Calibri"/>
              </a:rPr>
              <a:t>7,74%</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a:t>
            </a:r>
            <a:r>
              <a:rPr b="0" lang="en-GB" sz="1000" spc="-1" strike="noStrike">
                <a:solidFill>
                  <a:srgbClr val="000000"/>
                </a:solidFill>
                <a:latin typeface="Arial"/>
              </a:rPr>
              <a:t>	</a:t>
            </a:r>
            <a:r>
              <a:rPr b="0" lang="en-GB" sz="1200" spc="-1" strike="noStrike">
                <a:solidFill>
                  <a:srgbClr val="000000"/>
                </a:solidFill>
                <a:latin typeface="Calibri"/>
              </a:rPr>
              <a:t>4,35%</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a:t>
            </a:r>
            <a:r>
              <a:rPr b="0" lang="en-GB" sz="1000" spc="-1" strike="noStrike">
                <a:solidFill>
                  <a:srgbClr val="000000"/>
                </a:solidFill>
                <a:latin typeface="Arial"/>
              </a:rPr>
              <a:t>	</a:t>
            </a:r>
            <a:r>
              <a:rPr b="0" lang="en-GB" sz="1200" spc="-1" strike="noStrike">
                <a:solidFill>
                  <a:srgbClr val="000000"/>
                </a:solidFill>
                <a:latin typeface="Calibri"/>
              </a:rPr>
              <a:t>4,0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Y</a:t>
            </a:r>
            <a:r>
              <a:rPr b="0" lang="en-GB" sz="1000" spc="-1" strike="noStrike">
                <a:solidFill>
                  <a:srgbClr val="000000"/>
                </a:solidFill>
                <a:latin typeface="Arial"/>
              </a:rPr>
              <a:t>	</a:t>
            </a:r>
            <a:r>
              <a:rPr b="0" lang="en-GB" sz="1200" spc="-1" strike="noStrike">
                <a:solidFill>
                  <a:srgbClr val="000000"/>
                </a:solidFill>
                <a:latin typeface="Calibri"/>
              </a:rPr>
              <a:t>4,0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a:t>
            </a:r>
            <a:r>
              <a:rPr b="0" lang="en-GB" sz="1000" spc="-1" strike="noStrike">
                <a:solidFill>
                  <a:srgbClr val="000000"/>
                </a:solidFill>
                <a:latin typeface="Arial"/>
              </a:rPr>
              <a:t>	</a:t>
            </a:r>
            <a:r>
              <a:rPr b="0" lang="en-GB" sz="1200" spc="-1" strike="noStrike">
                <a:solidFill>
                  <a:srgbClr val="000000"/>
                </a:solidFill>
                <a:latin typeface="Calibri"/>
              </a:rPr>
              <a:t>3,87%</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a:t>
            </a:r>
            <a:r>
              <a:rPr b="0" lang="en-GB" sz="1000" spc="-1" strike="noStrike">
                <a:solidFill>
                  <a:srgbClr val="000000"/>
                </a:solidFill>
                <a:latin typeface="Arial"/>
              </a:rPr>
              <a:t>	</a:t>
            </a:r>
            <a:r>
              <a:rPr b="0" lang="en-GB" sz="1200" spc="-1" strike="noStrike">
                <a:solidFill>
                  <a:srgbClr val="000000"/>
                </a:solidFill>
                <a:latin typeface="Calibri"/>
              </a:rPr>
              <a:t>3,71%</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a:t>
            </a:r>
            <a:r>
              <a:rPr b="0" lang="en-GB" sz="1000" spc="-1" strike="noStrike">
                <a:solidFill>
                  <a:srgbClr val="000000"/>
                </a:solidFill>
                <a:latin typeface="Arial"/>
              </a:rPr>
              <a:t>	</a:t>
            </a:r>
            <a:r>
              <a:rPr b="0" lang="en-GB" sz="1200" spc="-1" strike="noStrike">
                <a:solidFill>
                  <a:srgbClr val="000000"/>
                </a:solidFill>
                <a:latin typeface="Calibri"/>
              </a:rPr>
              <a:t>3,0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Y</a:t>
            </a:r>
            <a:r>
              <a:rPr b="0" lang="en-GB" sz="1000" spc="-1" strike="noStrike">
                <a:solidFill>
                  <a:srgbClr val="000000"/>
                </a:solidFill>
                <a:latin typeface="Arial"/>
              </a:rPr>
              <a:t>	</a:t>
            </a:r>
            <a:r>
              <a:rPr b="0" lang="en-GB" sz="1200" spc="-1" strike="noStrike">
                <a:solidFill>
                  <a:srgbClr val="000000"/>
                </a:solidFill>
                <a:latin typeface="Calibri"/>
              </a:rPr>
              <a:t>2,4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a:t>
            </a:r>
            <a:r>
              <a:rPr b="0" lang="en-GB" sz="1000" spc="-1" strike="noStrike">
                <a:solidFill>
                  <a:srgbClr val="000000"/>
                </a:solidFill>
                <a:latin typeface="Arial"/>
              </a:rPr>
              <a:t>	</a:t>
            </a:r>
            <a:r>
              <a:rPr b="0" lang="en-GB" sz="1200" spc="-1" strike="noStrike">
                <a:solidFill>
                  <a:srgbClr val="000000"/>
                </a:solidFill>
                <a:latin typeface="Calibri"/>
              </a:rPr>
              <a:t>2,2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a:t>
            </a:r>
            <a:r>
              <a:rPr b="0" lang="en-GB" sz="1000" spc="-1" strike="noStrike">
                <a:solidFill>
                  <a:srgbClr val="000000"/>
                </a:solidFill>
                <a:latin typeface="Arial"/>
              </a:rPr>
              <a:t>	</a:t>
            </a:r>
            <a:r>
              <a:rPr b="0" lang="en-GB" sz="1200" spc="-1" strike="noStrike">
                <a:solidFill>
                  <a:srgbClr val="000000"/>
                </a:solidFill>
                <a:latin typeface="Calibri"/>
              </a:rPr>
              <a:t>1,29%</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a:t>
            </a:r>
            <a:r>
              <a:rPr b="0" lang="en-GB" sz="1000" spc="-1" strike="noStrike">
                <a:solidFill>
                  <a:srgbClr val="000000"/>
                </a:solidFill>
                <a:latin typeface="Arial"/>
              </a:rPr>
              <a:t>	</a:t>
            </a:r>
            <a:r>
              <a:rPr b="0" lang="en-GB" sz="1200" spc="-1" strike="noStrike">
                <a:solidFill>
                  <a:srgbClr val="000000"/>
                </a:solidFill>
                <a:latin typeface="Calibri"/>
              </a:rPr>
              <a:t>1,1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a:t>
            </a:r>
            <a:r>
              <a:rPr b="0" lang="en-GB" sz="1000" spc="-1" strike="noStrike">
                <a:solidFill>
                  <a:srgbClr val="000000"/>
                </a:solidFill>
                <a:latin typeface="Arial"/>
              </a:rPr>
              <a:t>	</a:t>
            </a:r>
            <a:r>
              <a:rPr b="0" lang="en-GB" sz="1200" spc="-1" strike="noStrike">
                <a:solidFill>
                  <a:srgbClr val="000000"/>
                </a:solidFill>
                <a:latin typeface="Calibri"/>
              </a:rPr>
              <a:t>0,97%</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a:t>
            </a:r>
            <a:r>
              <a:rPr b="0" lang="en-GB" sz="1000" spc="-1" strike="noStrike">
                <a:solidFill>
                  <a:srgbClr val="000000"/>
                </a:solidFill>
                <a:latin typeface="Arial"/>
              </a:rPr>
              <a:t>	</a:t>
            </a:r>
            <a:r>
              <a:rPr b="0" lang="en-GB" sz="1200" spc="-1" strike="noStrike">
                <a:solidFill>
                  <a:srgbClr val="000000"/>
                </a:solidFill>
                <a:latin typeface="Calibri"/>
              </a:rPr>
              <a:t>0,81%</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V</a:t>
            </a:r>
            <a:r>
              <a:rPr b="0" lang="en-GB" sz="1000" spc="-1" strike="noStrike">
                <a:solidFill>
                  <a:srgbClr val="000000"/>
                </a:solidFill>
                <a:latin typeface="Arial"/>
              </a:rPr>
              <a:t>	</a:t>
            </a:r>
            <a:r>
              <a:rPr b="0" lang="en-GB" sz="1200" spc="-1" strike="noStrike">
                <a:solidFill>
                  <a:srgbClr val="000000"/>
                </a:solidFill>
                <a:latin typeface="Calibri"/>
              </a:rPr>
              <a:t>0,48%</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N</a:t>
            </a:r>
            <a:r>
              <a:rPr b="0" lang="en-GB" sz="1000" spc="-1" strike="noStrike">
                <a:solidFill>
                  <a:srgbClr val="000000"/>
                </a:solidFill>
                <a:latin typeface="Arial"/>
              </a:rPr>
              <a:t>	</a:t>
            </a:r>
            <a:r>
              <a:rPr b="0" lang="en-GB" sz="1200" spc="-1" strike="noStrike">
                <a:solidFill>
                  <a:srgbClr val="000000"/>
                </a:solidFill>
                <a:latin typeface="Calibri"/>
              </a:rPr>
              <a:t>0,3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L</a:t>
            </a:r>
            <a:r>
              <a:rPr b="0" lang="en-GB" sz="1000" spc="-1" strike="noStrike">
                <a:solidFill>
                  <a:srgbClr val="000000"/>
                </a:solidFill>
                <a:latin typeface="Arial"/>
              </a:rPr>
              <a:t>	</a:t>
            </a:r>
            <a:r>
              <a:rPr b="0" lang="en-GB" sz="1200" spc="-1" strike="noStrike">
                <a:solidFill>
                  <a:srgbClr val="000000"/>
                </a:solidFill>
                <a:latin typeface="Calibri"/>
              </a:rPr>
              <a:t>0,3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a:t>
            </a:r>
            <a:r>
              <a:rPr b="0" lang="en-GB" sz="1000" spc="-1" strike="noStrike">
                <a:solidFill>
                  <a:srgbClr val="000000"/>
                </a:solidFill>
                <a:latin typeface="Arial"/>
              </a:rPr>
              <a:t>	</a:t>
            </a:r>
            <a:r>
              <a:rPr b="0" lang="en-GB" sz="1200" spc="-1" strike="noStrike">
                <a:solidFill>
                  <a:srgbClr val="000000"/>
                </a:solidFill>
                <a:latin typeface="Calibri"/>
              </a:rPr>
              <a:t>0,1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t>
            </a:r>
            <a:r>
              <a:rPr b="0" lang="en-GB" sz="1000" spc="-1" strike="noStrike">
                <a:solidFill>
                  <a:srgbClr val="000000"/>
                </a:solidFill>
                <a:latin typeface="Arial"/>
              </a:rPr>
              <a:t>	</a:t>
            </a:r>
            <a:r>
              <a:rPr b="0" lang="en-GB" sz="1200" spc="-1" strike="noStrike">
                <a:solidFill>
                  <a:srgbClr val="000000"/>
                </a:solidFill>
                <a:latin typeface="Calibri"/>
              </a:rPr>
              <a:t>0,16%</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 Host Ctr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a:t>
            </a:r>
            <a:r>
              <a:rPr b="0" lang="en-GB" sz="1200" spc="-1" strike="noStrike">
                <a:solidFill>
                  <a:srgbClr val="000000"/>
                </a:solidFill>
                <a:latin typeface="Calibri"/>
              </a:rPr>
              <a:t>	</a:t>
            </a:r>
            <a:r>
              <a:rPr b="1" lang="en-GB" sz="1200" spc="-1" strike="noStrike">
                <a:solidFill>
                  <a:srgbClr val="000000"/>
                </a:solidFill>
                <a:latin typeface="Calibri"/>
              </a:rPr>
              <a:t>42,4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T</a:t>
            </a:r>
            <a:r>
              <a:rPr b="0" lang="en-GB" sz="1200" spc="-1" strike="noStrike">
                <a:solidFill>
                  <a:srgbClr val="000000"/>
                </a:solidFill>
                <a:latin typeface="Calibri"/>
              </a:rPr>
              <a:t>	</a:t>
            </a:r>
            <a:r>
              <a:rPr b="1" lang="en-GB" sz="1200" spc="-1" strike="noStrike">
                <a:solidFill>
                  <a:srgbClr val="000000"/>
                </a:solidFill>
                <a:latin typeface="Calibri"/>
              </a:rPr>
              <a:t>14,00%</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a:t>
            </a:r>
            <a:r>
              <a:rPr b="0" lang="en-GB" sz="1200" spc="-1" strike="noStrike">
                <a:solidFill>
                  <a:srgbClr val="000000"/>
                </a:solidFill>
                <a:latin typeface="Calibri"/>
              </a:rPr>
              <a:t>	</a:t>
            </a:r>
            <a:r>
              <a:rPr b="1" lang="en-GB" sz="1200" spc="-1" strike="noStrike">
                <a:solidFill>
                  <a:srgbClr val="000000"/>
                </a:solidFill>
                <a:latin typeface="Calibri"/>
              </a:rPr>
              <a:t>10,6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a:t>
            </a:r>
            <a:r>
              <a:rPr b="0" lang="en-GB" sz="1200" spc="-1" strike="noStrike">
                <a:solidFill>
                  <a:srgbClr val="000000"/>
                </a:solidFill>
                <a:latin typeface="Calibri"/>
              </a:rPr>
              <a:t>	</a:t>
            </a:r>
            <a:r>
              <a:rPr b="0" lang="en-GB" sz="1200" spc="-1" strike="noStrike">
                <a:solidFill>
                  <a:srgbClr val="000000"/>
                </a:solidFill>
                <a:latin typeface="Calibri"/>
              </a:rPr>
              <a:t>6,60%</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t>
            </a:r>
            <a:r>
              <a:rPr b="0" lang="en-GB" sz="1200" spc="-1" strike="noStrike">
                <a:solidFill>
                  <a:srgbClr val="000000"/>
                </a:solidFill>
                <a:latin typeface="Calibri"/>
              </a:rPr>
              <a:t>	</a:t>
            </a:r>
            <a:r>
              <a:rPr b="0" lang="en-GB" sz="1200" spc="-1" strike="noStrike">
                <a:solidFill>
                  <a:srgbClr val="000000"/>
                </a:solidFill>
                <a:latin typeface="Calibri"/>
              </a:rPr>
              <a:t>6,12%</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a:t>
            </a:r>
            <a:r>
              <a:rPr b="0" lang="en-GB" sz="1200" spc="-1" strike="noStrike">
                <a:solidFill>
                  <a:srgbClr val="000000"/>
                </a:solidFill>
                <a:latin typeface="Calibri"/>
              </a:rPr>
              <a:t>	</a:t>
            </a:r>
            <a:r>
              <a:rPr b="0" lang="en-GB" sz="1200" spc="-1" strike="noStrike">
                <a:solidFill>
                  <a:srgbClr val="000000"/>
                </a:solidFill>
                <a:latin typeface="Calibri"/>
              </a:rPr>
              <a:t>5,3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L</a:t>
            </a:r>
            <a:r>
              <a:rPr b="0" lang="en-GB" sz="1200" spc="-1" strike="noStrike">
                <a:solidFill>
                  <a:srgbClr val="000000"/>
                </a:solidFill>
                <a:latin typeface="Calibri"/>
              </a:rPr>
              <a:t>	</a:t>
            </a:r>
            <a:r>
              <a:rPr b="0" lang="en-GB" sz="1200" spc="-1" strike="noStrike">
                <a:solidFill>
                  <a:srgbClr val="000000"/>
                </a:solidFill>
                <a:latin typeface="Calibri"/>
              </a:rPr>
              <a:t>4,59%</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a:t>
            </a:r>
            <a:r>
              <a:rPr b="0" lang="en-GB" sz="1200" spc="-1" strike="noStrike">
                <a:solidFill>
                  <a:srgbClr val="000000"/>
                </a:solidFill>
                <a:latin typeface="Calibri"/>
              </a:rPr>
              <a:t>	</a:t>
            </a:r>
            <a:r>
              <a:rPr b="0" lang="en-GB" sz="1200" spc="-1" strike="noStrike">
                <a:solidFill>
                  <a:srgbClr val="000000"/>
                </a:solidFill>
                <a:latin typeface="Calibri"/>
              </a:rPr>
              <a:t>4,16%</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t>
            </a:r>
            <a:r>
              <a:rPr b="0" lang="en-GB" sz="1200" spc="-1" strike="noStrike">
                <a:solidFill>
                  <a:srgbClr val="000000"/>
                </a:solidFill>
                <a:latin typeface="Calibri"/>
              </a:rPr>
              <a:t>	</a:t>
            </a:r>
            <a:r>
              <a:rPr b="0" lang="en-GB" sz="1200" spc="-1" strike="noStrike">
                <a:solidFill>
                  <a:srgbClr val="000000"/>
                </a:solidFill>
                <a:latin typeface="Calibri"/>
              </a:rPr>
              <a:t>1,2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Z</a:t>
            </a:r>
            <a:r>
              <a:rPr b="0" lang="en-GB" sz="1200" spc="-1" strike="noStrike">
                <a:solidFill>
                  <a:srgbClr val="000000"/>
                </a:solidFill>
                <a:latin typeface="Calibri"/>
              </a:rPr>
              <a:t>	</a:t>
            </a:r>
            <a:r>
              <a:rPr b="0" lang="en-GB" sz="1200" spc="-1" strike="noStrike">
                <a:solidFill>
                  <a:srgbClr val="000000"/>
                </a:solidFill>
                <a:latin typeface="Calibri"/>
              </a:rPr>
              <a:t>1,2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U</a:t>
            </a:r>
            <a:r>
              <a:rPr b="0" lang="en-GB" sz="1200" spc="-1" strike="noStrike">
                <a:solidFill>
                  <a:srgbClr val="000000"/>
                </a:solidFill>
                <a:latin typeface="Calibri"/>
              </a:rPr>
              <a:t>	</a:t>
            </a:r>
            <a:r>
              <a:rPr b="0" lang="en-GB" sz="1200" spc="-1" strike="noStrike">
                <a:solidFill>
                  <a:srgbClr val="000000"/>
                </a:solidFill>
                <a:latin typeface="Calibri"/>
              </a:rPr>
              <a:t>0,8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a:t>
            </a:r>
            <a:r>
              <a:rPr b="0" lang="en-GB" sz="1200" spc="-1" strike="noStrike">
                <a:solidFill>
                  <a:srgbClr val="000000"/>
                </a:solidFill>
                <a:latin typeface="Calibri"/>
              </a:rPr>
              <a:t>	</a:t>
            </a:r>
            <a:r>
              <a:rPr b="0" lang="en-GB" sz="1200" spc="-1" strike="noStrike">
                <a:solidFill>
                  <a:srgbClr val="000000"/>
                </a:solidFill>
                <a:latin typeface="Calibri"/>
              </a:rPr>
              <a:t>0,84%</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K</a:t>
            </a:r>
            <a:r>
              <a:rPr b="0" lang="en-GB" sz="1200" spc="-1" strike="noStrike">
                <a:solidFill>
                  <a:srgbClr val="000000"/>
                </a:solidFill>
                <a:latin typeface="Calibri"/>
              </a:rPr>
              <a:t>	</a:t>
            </a:r>
            <a:r>
              <a:rPr b="0" lang="en-GB" sz="1200" spc="-1" strike="noStrike">
                <a:solidFill>
                  <a:srgbClr val="000000"/>
                </a:solidFill>
                <a:latin typeface="Calibri"/>
              </a:rPr>
              <a:t>0,59%</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a:t>
            </a:r>
            <a:r>
              <a:rPr b="0" lang="en-GB" sz="1200" spc="-1" strike="noStrike">
                <a:solidFill>
                  <a:srgbClr val="000000"/>
                </a:solidFill>
                <a:latin typeface="Calibri"/>
              </a:rPr>
              <a:t>	</a:t>
            </a:r>
            <a:r>
              <a:rPr b="0" lang="en-GB" sz="1200" spc="-1" strike="noStrike">
                <a:solidFill>
                  <a:srgbClr val="000000"/>
                </a:solidFill>
                <a:latin typeface="Calibri"/>
              </a:rPr>
              <a:t>0,4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a:t>
            </a:r>
            <a:r>
              <a:rPr b="0" lang="en-GB" sz="1200" spc="-1" strike="noStrike">
                <a:solidFill>
                  <a:srgbClr val="000000"/>
                </a:solidFill>
                <a:latin typeface="Calibri"/>
              </a:rPr>
              <a:t>	</a:t>
            </a:r>
            <a:r>
              <a:rPr b="0" lang="en-GB" sz="1200" spc="-1" strike="noStrike">
                <a:solidFill>
                  <a:srgbClr val="000000"/>
                </a:solidFill>
                <a:latin typeface="Calibri"/>
              </a:rPr>
              <a:t>0,2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t>
            </a:r>
            <a:r>
              <a:rPr b="0" lang="en-GB" sz="1200" spc="-1" strike="noStrike">
                <a:solidFill>
                  <a:srgbClr val="000000"/>
                </a:solidFill>
                <a:latin typeface="Calibri"/>
              </a:rPr>
              <a:t>	</a:t>
            </a:r>
            <a:r>
              <a:rPr b="0" lang="en-GB" sz="1200" spc="-1" strike="noStrike">
                <a:solidFill>
                  <a:srgbClr val="000000"/>
                </a:solidFill>
                <a:latin typeface="Calibri"/>
              </a:rPr>
              <a:t>0,1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a:t>
            </a:r>
            <a:r>
              <a:rPr b="0" lang="en-GB" sz="1200" spc="-1" strike="noStrike">
                <a:solidFill>
                  <a:srgbClr val="000000"/>
                </a:solidFill>
                <a:latin typeface="Calibri"/>
              </a:rPr>
              <a:t>	</a:t>
            </a:r>
            <a:r>
              <a:rPr b="0" lang="en-GB" sz="1200" spc="-1" strike="noStrike">
                <a:solidFill>
                  <a:srgbClr val="000000"/>
                </a:solidFill>
                <a:latin typeface="Calibri"/>
              </a:rPr>
              <a:t>0,1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K</a:t>
            </a:r>
            <a:r>
              <a:rPr b="0" lang="en-GB" sz="1200" spc="-1" strike="noStrike">
                <a:solidFill>
                  <a:srgbClr val="000000"/>
                </a:solidFill>
                <a:latin typeface="Calibri"/>
              </a:rPr>
              <a:t>	</a:t>
            </a:r>
            <a:r>
              <a:rPr b="0" lang="en-GB" sz="1200" spc="-1" strike="noStrike">
                <a:solidFill>
                  <a:srgbClr val="000000"/>
                </a:solidFill>
                <a:latin typeface="Calibri"/>
              </a:rPr>
              <a:t>0,0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6"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1980-3689-4B35-BB11-F1BF55E85F17}"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966960" y="743040"/>
            <a:ext cx="4951080" cy="3713040"/>
          </a:xfrm>
          <a:prstGeom prst="rect">
            <a:avLst/>
          </a:prstGeom>
          <a:ln w="0">
            <a:noFill/>
          </a:ln>
        </p:spPr>
      </p:sp>
      <p:sp>
        <p:nvSpPr>
          <p:cNvPr id="1238"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lgunas preguntas que invitan a la reflexión… /A modo de conclusion os invito a reflexionar y debatir mañana en los taller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El participar en un proyecto de EM ha ofrecido muchas posibilidades a las universidades de invertir en una trayectoria internacional; de obtener resultados; de entablar acuerdos para trabjar conjuntamente….</a:t>
            </a:r>
            <a:endParaRPr b="0" lang="en-US" sz="1200" spc="-1" strike="noStrike">
              <a:solidFill>
                <a:srgbClr val="000000"/>
              </a:solidFill>
              <a:latin typeface="Arial"/>
            </a:endParaRPr>
          </a:p>
        </p:txBody>
      </p:sp>
      <p:sp>
        <p:nvSpPr>
          <p:cNvPr id="1239"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E0C8-8199-4F90-856E-9E583DD9DE19}"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966960" y="743040"/>
            <a:ext cx="4951080" cy="3713040"/>
          </a:xfrm>
          <a:prstGeom prst="rect">
            <a:avLst/>
          </a:prstGeom>
          <a:ln w="0">
            <a:noFill/>
          </a:ln>
        </p:spPr>
      </p:sp>
      <p:sp>
        <p:nvSpPr>
          <p:cNvPr id="1193"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programa abarca tres tipos de acci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movilidad para realizar una maestría o doctorado conju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movilidad para realizar una estancia en otra universidad bajo cualquier tipo de nivel de estud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ejecución de proyectos para apoyar </a:t>
            </a:r>
            <a:r>
              <a:rPr b="0" lang="es-ES" sz="1200" spc="-1" strike="noStrike">
                <a:solidFill>
                  <a:srgbClr val="000000"/>
                </a:solidFill>
                <a:latin typeface="Arial"/>
              </a:rPr>
              <a:t>iniciativas transnacionales, eventos, estudios y otras actividades que: fomenten la educación superior europea y que aborden los problemas de la cooperación internacional de educación superi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6CC8-513D-4A1A-B546-F9868D49D652}"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966960" y="743040"/>
            <a:ext cx="4951080" cy="3713040"/>
          </a:xfrm>
          <a:prstGeom prst="rect">
            <a:avLst/>
          </a:prstGeom>
          <a:ln w="0">
            <a:noFill/>
          </a:ln>
        </p:spPr>
      </p:sp>
      <p:sp>
        <p:nvSpPr>
          <p:cNvPr id="1196"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marco de la Acción 2 – Partenari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total de 277 partenariados han sido constituidos a nivel mund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altan las mil cuatrocientas veinti una diferentes universidades involucradas en este escenario que han logrado moviliazar 44.490 entre estudiantes y personal académico y administ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7"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847E-5DD9-4AB7-947C-E57CB13F25D9}"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966960" y="743040"/>
            <a:ext cx="4951080" cy="3713040"/>
          </a:xfrm>
          <a:prstGeom prst="rect">
            <a:avLst/>
          </a:prstGeom>
          <a:ln w="0">
            <a:noFill/>
          </a:ln>
        </p:spPr>
      </p:sp>
      <p:sp>
        <p:nvSpPr>
          <p:cNvPr id="1199"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a estas cifras añadimos los proyectos recien seleccionados (2014) estaríamos hablando de un total de 53 partenariados entre países de la UE y de América Latina constituidos a lo largo del programa desde 2008 hasta hoy.</a:t>
            </a:r>
            <a:endParaRPr b="0" lang="en-US" sz="1200" spc="-1" strike="noStrike">
              <a:solidFill>
                <a:srgbClr val="000000"/>
              </a:solidFill>
              <a:latin typeface="Arial"/>
            </a:endParaRPr>
          </a:p>
        </p:txBody>
      </p:sp>
      <p:sp>
        <p:nvSpPr>
          <p:cNvPr id="1200"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8F9C-6893-427D-B187-B6007E6959D4}"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966960" y="743040"/>
            <a:ext cx="4951080" cy="3713040"/>
          </a:xfrm>
          <a:prstGeom prst="rect">
            <a:avLst/>
          </a:prstGeom>
          <a:ln w="0">
            <a:noFill/>
          </a:ln>
        </p:spPr>
      </p:sp>
      <p:sp>
        <p:nvSpPr>
          <p:cNvPr id="1202"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quí tenemos un ejempl de algunos de estos partenariados….</a:t>
            </a:r>
            <a:endParaRPr b="0" lang="en-US" sz="1200" spc="-1" strike="noStrike">
              <a:solidFill>
                <a:srgbClr val="000000"/>
              </a:solidFill>
              <a:latin typeface="Arial"/>
            </a:endParaRPr>
          </a:p>
        </p:txBody>
      </p:sp>
      <p:sp>
        <p:nvSpPr>
          <p:cNvPr id="1203"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8045-4096-42BD-9E57-86E2D4381A1F}"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966960" y="743040"/>
            <a:ext cx="4951080" cy="3713040"/>
          </a:xfrm>
          <a:prstGeom prst="rect">
            <a:avLst/>
          </a:prstGeom>
          <a:ln w="0">
            <a:noFill/>
          </a:ln>
        </p:spPr>
      </p:sp>
      <p:sp>
        <p:nvSpPr>
          <p:cNvPr id="1205"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s prioridades definidas para esta programa y en particular en la región de América Latina implican alcanzar objetivos que suponen, por veces dasafios para lograr obtener resultados así como generar un imp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6"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4FE4-AFB9-48B0-AC8B-54BA2D7CFA24}"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966960" y="743040"/>
            <a:ext cx="4951080" cy="3713040"/>
          </a:xfrm>
          <a:prstGeom prst="rect">
            <a:avLst/>
          </a:prstGeom>
          <a:ln w="0">
            <a:noFill/>
          </a:ln>
        </p:spPr>
      </p:sp>
      <p:sp>
        <p:nvSpPr>
          <p:cNvPr id="1208"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ecer la participación de Uniersidades ubicadas en areas menos desarrollad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a prioridad/objetivo es contribuir a ofrecer a buenos alumnos de los grupos vulnerables (es decir, refugiados, pueblos indígenas…) una Educación continua y el desarrollo profesional que les capacite como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bién se ha buscado favorecer la participación de estudiantes con buen mérito académico y en condiciones de desventaja socio-económica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9"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D71C-704B-47A7-A9D1-01AB5A248A9D}"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966960" y="743040"/>
            <a:ext cx="4951080" cy="3713040"/>
          </a:xfrm>
          <a:prstGeom prst="rect">
            <a:avLst/>
          </a:prstGeom>
          <a:ln w="0">
            <a:noFill/>
          </a:ln>
        </p:spPr>
      </p:sp>
      <p:sp>
        <p:nvSpPr>
          <p:cNvPr id="1211"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prioridad para esta región de América Latina relativa a la cobertura geográfica ha estimulado la incorporación, en los partenariados, de universidades de menor tamaño y sobre todo de áreas geográficas periféricas que normalmente no estan presentes en estos pro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el caso de Argentina, por ejemplo, se ha logrado incluir universidades remotas que han podido aprovechar la dinámica y experiencia de las universidades mas grandes</a:t>
            </a:r>
            <a:endParaRPr b="0" lang="en-US" sz="1200" spc="-1" strike="noStrike">
              <a:solidFill>
                <a:srgbClr val="000000"/>
              </a:solidFill>
              <a:latin typeface="Arial"/>
            </a:endParaRPr>
          </a:p>
        </p:txBody>
      </p:sp>
      <p:sp>
        <p:nvSpPr>
          <p:cNvPr id="1212"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83E2-360B-43CD-A40C-9A8F9ED226A5}"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966960" y="743040"/>
            <a:ext cx="4951080" cy="3713040"/>
          </a:xfrm>
          <a:prstGeom prst="rect">
            <a:avLst/>
          </a:prstGeom>
          <a:ln w="0">
            <a:noFill/>
          </a:ln>
        </p:spPr>
      </p:sp>
      <p:sp>
        <p:nvSpPr>
          <p:cNvPr id="1214"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Muchos de los sistemas de educación superior latinoamericanos se enfrentan a retos considerables, como por ejemplo la necesidad de desarrollar los recursos humanos con el fin de mejorar la calidad académica. La incapacidad de producir individuos quilificados se ve agravada por la fuga de cerebros, que reduce la capacidad de las regiones para competir en la economía global y el desarrollo de una sociedad basada cada vez mas en el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El programa  EM ha querido retar estas dificultades y dar la oportunidad a miles de estudiantes y de personal académico de estudiar en Europa, contribuyendo de esta forma a mejorar el nivel de recursos humanos….Al tiempo que las instituciones de donde provienen tienen la oportunidad de intervenir en una escena inter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enariados de EM-AL han enfrentado el desafío de desarrollar una cooperación eficiente y eficaz a nivel de la educación superior en un escenario regional muy diferenciado de un país al otro. La cooperación ha demostrado ser exitosa con una motivación extraordinaria proveniente de todos por el bien e interés de los estudiantes y las instituciones involucr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Se observa cómo el proceso de internacionalización es un punto prioritario en la agenda de todas las IES en AL, desde los más pequeños con menos experiencia a los mas grandes con mas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5"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F15C-D89F-4001-932B-BE6A6B7B475D}"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6B65B-9CF0-4E15-9F1E-C0FB00213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9227-3DA9-46FD-ACF2-51D924180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015FA86-92A7-44D9-A192-7C738649F78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62D63A4-D107-4DD2-9299-58080260251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5C36A13-EC2B-4CA0-856A-48D815ABB54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E3BD30C-3510-4B7A-B318-702386CEDBA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AAD7E3-2938-4D15-945D-90068BD1A15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23FFB8A-498E-482F-AA69-7E00BB45C7C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E5B29C4-3AA0-4B72-91F2-7D404520A82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9C2C217-8CD0-4E51-AE0E-E8E2634325D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94D3B18-7913-4AD7-AF18-94A92659BC2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BC1FE1F-31E9-47E4-AFCB-126579BCF83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35B35-0088-4B1F-BB2C-B70CF58D1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0B9E531-116D-42BD-95C7-95FF7B72A08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17FE5B6-D117-4DB5-AFD4-71FE03D54CA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AB33AE9-BA75-446C-90CE-79CFBCD13FD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9E8E6E4-AA08-4412-A671-2AA74BB0E2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2136CC4-C343-4155-BB55-C80545777A0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6FB1EA8-ACBC-4B71-AD68-71EC0384B6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3B622A0-0252-49F9-A9E9-42548267CC9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F88A977-C535-4F1D-AB4E-3DDA4A8B77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B736C80-D6BF-40D0-AA9D-2F51F003669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5A583D8-462E-4FFC-A9AC-C431A04B79C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C969C-B457-421C-A236-5EB59B9EA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3F1CF97-0495-43BF-AED8-0E78176223E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8F697E6-5E82-4977-8F61-1816492018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9D4F259-C484-4BE7-8EAB-D4CB66CC3B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7A5AD24-492F-4207-9DC3-CD8114F8E3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1A904FD-2297-4B8F-833C-0AC9CB496C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DE7182A-7D1C-433C-AD8B-70CED252D2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8EE388B-515C-490A-B37F-7C1B2E4F21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BFA3861-4BCD-4747-9E54-7A36B49FE6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521F72A-A922-481D-A971-23FEE9B1DE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EB8EE91-B734-4818-BCCC-752F79AF16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07C5A-1161-40C4-B8EC-419829680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1884605-1008-4557-9335-3C9E62345F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2BEE45E-E40B-4E92-8AB8-2F762DAD30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3953AAA-9AD1-42C2-9578-3E1AA3CED8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C25A39B-9411-4274-8CA4-2FF4A698D5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9782E25-1356-471D-804A-287A51FE41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7181559-E606-4DC2-B3D4-13B9BCEBA7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BC506F6-D5B5-4629-89B8-30D5BA7FC9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88CD688-AF8C-48B6-B1F9-4449D09C3A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1E12FC1-449F-4446-85B9-AE13C92100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C715A67-1525-4E5C-823B-B237CC42E8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0351B-A9F5-4873-888D-F2CA61188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A52A709-3936-447D-9395-C4F7CFCDE0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6CA5A07-CA73-4DC1-9F46-FBA72E213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258FC62-DD96-4277-B6B2-99AAA0AA4E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2DE8AD7-27FF-4DCD-930C-27A3BA0DC6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9E336CE-35F4-41B0-9457-8DB77BE40B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96BDEAF3-EDC9-437C-A6E9-E5865EE9D7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F0DAA38-33E6-4D18-98A5-8B47C4D653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46F3F05-CBE2-47AD-A3BD-067F399981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7E0C0B2-EA68-4E28-8D08-F465C25EA7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B574A72-F308-4D17-A4C9-BE07D2CB30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B12BB-2829-40B4-9A86-365CAAD38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68C618B-3EE6-4AC4-9740-DC33F81F4B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0796D0B-6441-49C7-B635-4F58F1B00E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C36F4C8-2F18-401F-AB41-19D5E03322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FB1814A-0DA9-431A-8262-E96221D15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FD91DD8-5932-4BF4-808D-E8005D707B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A643AFF-642B-4B02-9448-F737BB357B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FD5B879-09E1-4A17-9639-3EED398908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FE526B6-832E-4A9A-8ECD-F9CFC63585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DFD3029-8D1F-45D8-994D-A3E57893AC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340950B-B172-490A-A6C4-1BC9C14A2D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39ADD-409B-435D-9E40-7EE4F81E4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C807225-67DC-40C6-ADC1-E8F37CBA47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80E6030-D3C0-4F19-AA18-9E30DA7F62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8BFA8D3-CACB-465D-86D0-1EB860B008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7AD256D-FA5B-482C-8295-C6480C640C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470ECAD-108B-4415-B5BF-125F4451CF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1592F71-E20D-4CBA-9132-63A45C5250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AF57D9B-836E-4133-B6B3-DFBFBCAE38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A4F400B-0CD6-4BE6-9EEA-41A08E6102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2C900CF7-4304-474C-B412-4A9D39563B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04896FE-0EB5-401E-8655-203AFFA501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FF042-D512-4BB9-8AA6-5E67C0D42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A306167-BC25-4B13-AFF9-7DE8E3410B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6AE2EF5-7186-45D9-A1E6-818AA97B13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8FD9ED3-FB47-4B10-AAE3-7B0E4ACB15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F120C9D-FB6B-47EE-B3DC-39EF16840D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4A42ED1-4877-4B61-BBF8-2EDE1DB091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F1080A0-1941-4E62-B175-C86F49EB62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60FD146-2DDF-4534-93AA-FA590118C0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C08DAE0-EF66-454F-B63E-B99290CFAF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A854768-387F-4FBF-8A89-A3C45D79EB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32E5AA39-CAE2-489E-AD7C-CE0BC23615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01DDC-3719-40CB-BB9D-040AFF637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084E874-C05F-4410-AFD3-B69E49CF8C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B65E2FF-3C49-4B98-AD61-4040CB0570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3A683D7-2B3A-456D-B9F3-CF30597916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E74CD91-DD41-4C5A-A712-CD1BE1DF5A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D23270E-B1C0-4D47-A1B7-A22949240C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D341E98-AB47-4FA4-9041-D98510D9A2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3145886-FB07-41FA-9754-1BBA5BE453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617B36D-E90F-4016-8BD8-A739C3B0BA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6DA1E4B-4737-4C37-9EF4-CEE740262B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9A5A0E1-D913-4BC0-94EE-3DC22C83D7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0F594-12CA-4E58-9113-E4509C4F0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720842C-227C-42DD-BB84-FDBDBB1240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2897DC9-EE5A-4F09-9CEA-E0E5A130C7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4A07BF3-0E2E-4AD6-8950-964D8A6762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0CE0720D-8429-452D-BE41-032500AD25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8309DBB-74BC-41CE-BEA3-21FE43A903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45A15D9-41AC-4811-B4FE-08CE6E7FE0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5A11BFB-ECF8-4B1F-809F-D073ED9892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5217423-68A5-4B25-980C-8023EB8128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266608F8-5077-4A9E-8A28-766640607E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B3C2A00-10A7-4D2D-BD16-AC1FA5C7A8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09EAF-64FB-40F9-AAEC-C3472C1E2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7B3C7-5DD6-4123-A06A-53B148352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779991B-EFE2-472F-BBE0-F0C28DBF2E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A5A5A07-EFA3-4878-89DC-9A3C3573FA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B4E999E-5C91-4C1A-BE8D-48F2278596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7F183617-D0F9-4DC2-BD00-B408C42E57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14F1C46-38BA-4A43-B47B-EDD0F532BE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B931B46-5DAB-402F-9FE8-99DAA4B5CDB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B11832E-F9A6-4A45-AA0E-CD5EE9931C7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281BC62-16DC-4538-BB80-FBCA47958E9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233CBBF-BF1F-4504-A611-51478EBF806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BCB7C72-7A62-4041-AA32-28BED8884DF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4EDDD-5E0B-4160-AEFF-82A270DBD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C0D4296-9343-4460-A544-0F9FC783B49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DC19466-7D5C-4008-B42F-F304FF6D1CC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7ED62E6-AAD2-41B6-AF90-E893817BB54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95F9764-4EA4-4FCA-9CEE-C860DB658FF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C30BC5A-A725-4BDC-9CF5-C56F2B0787A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501D5A5E-28BE-4BA9-8D2F-10B832D4C59B}"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C6E90CF-6630-45BF-8770-924C4D6BD995}"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6F768BC3-DC91-40DD-BA9A-0656CF2041CC}"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BAD32C6A-5904-480B-BC07-7B2E93FABBF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1B8D782-5AB5-4E68-A548-96420F3417D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D065D-5937-4FA8-8C9A-AA32D80DE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AF247A0-6F08-470B-952F-883517B7B59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E8C5709-245B-4259-A286-2ADD1EBD375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C1FEE05-EB27-43AC-A29A-5FEB86907A2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C38AE6F-15AE-4E22-86E8-7820BF77647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3203C78-4A63-4798-AEFD-23CCC19A097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7B082CB-D3A4-4338-9F96-C4B08BB6D87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F508FED-D97A-4BE0-A8E0-5332FEBD181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16DA3353-5133-46E8-8331-954AE27D50D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C482616-B0D5-44D7-9911-16079CB39815}"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C7A81CB0-108E-4D59-BCA5-7767200FCB51}"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C851E9-4F72-413B-9F5D-9D50038E7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637B866-883B-43A6-8A5B-C53248FD803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5C9142E-2E1D-4621-9135-6162E0268F52}"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D39E981-3CCE-41E5-ADAB-4F42875D5FF5}"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6428037-6B3F-4512-9CD1-CAC6F2DBE48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8FDBCF79-BFF3-4637-AF31-5D2B0F3675C4}"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5150D2A-84D7-40C1-8F3B-2FAF1FA5347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F6BD58F-7929-434B-99B0-CF2D3FD3EE1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D9920CF-F2C3-4483-95D9-BE546BD4D15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DAF94BD-1BA0-47D3-93F9-D21CD951E2A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AA3EB76C-BA76-44F4-ABF3-AAA2C054D619}"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37415-E6B4-4F9D-90E8-E8FD9DF20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15E7FD82-5D1F-4603-87ED-8EE61A843E31}"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86745CAB-4661-4E7E-B0EB-FD9A0C72D0C0}"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588C5A38-3703-49CB-90EE-FD57190AB70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618C8592-BE63-4FFB-B7A0-DB50801D2B9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C86418D-27EE-49BF-815B-C49BBE07F01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0BBE2A9-153E-4AB1-978A-F3FD264B816F}"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D77ABD6-5D87-4329-83F0-BDE3A954DDB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E010043-3059-4D08-ACA1-8A3E290784D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3E39408-C387-4239-BF1E-12AFA1B2DC5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2C4FA33-60F1-49EF-8A0F-84023D0FBA0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446575F-3DB9-459E-8821-E66A4789731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D8E63C59-F8AF-4214-85AC-CEE91C22B963}"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2C22C330-C7E4-450A-AD7C-C5D5FBB43311}"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DAD051D9-AEAC-411A-B3F2-345EA73C06AD}"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BAB0CAE2-ACF4-46DE-9E2E-6A56ACBE749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C4BC3C3-2B69-4BE3-95DA-28368BAC794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7B88248-E826-4859-8D7C-4984637AF6E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87C1C0F-FDD1-4AB3-947F-34E5F53A71C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E70F753-6654-4EAE-8826-E8C7C604430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3B4867F-1547-4199-BDA9-23C7864928D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014E70E-4BF5-4678-B5A1-D52EB38067D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C5FF1B22-7BE9-4570-B1AF-CB121707F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F335B49-2CF7-4F60-A2DB-AB46BC358F0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C5C15D7-5404-4840-B5C1-9D7A8FAD09C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642394BD-1F24-41A9-BC62-9384D237BF2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71CE4F70-D6E0-46F7-BDA9-D36914558DD2}"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B7791ACF-2A70-4A31-8B33-357AF8F3DC6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DA8059EA-4A74-42C1-97CA-E93273C15DC0}"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0D372FD-4972-4194-9D63-7CF2517F6D5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E97F653-A83F-4D2F-AA1D-EC5A44D73EA0}"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ACFC0658-CB40-4329-B274-0C875C9E044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BDF7221-B695-42B1-A6C6-B72846AC73E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C20FABB1-9A6B-4849-A7F2-4A79A70C5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5E1B9B1-C386-4A3C-9FC2-0CB3DE816A9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D4BA20A-693A-4ECA-B13B-513795BFAA6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96098A1-1F2A-4352-BCF2-DC575EAD558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1763C67-83CF-4983-9FAB-EA96644BA0F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3AC8AEA-0452-471A-A4F3-2381CC5448A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E17CE3C3-3E34-47BC-8FA9-ED01E2BDBFB6}"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081E2857-0E0B-4503-97C6-B17CEAACABC5}"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4DD532D-A709-47C4-9B5A-71813EEAFC17}"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7639BD1-E693-4241-AB9D-8B79090E773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DBE44F7-BBE5-4854-90C3-6610412BB3F6}"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E7EDC9F5-5D80-4096-BE48-EEA67AF57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FD1C7B69-89D9-42B3-BF53-FA9D57421F7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9499359-140B-4929-9F0D-6FA6D8037C1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C1909F76-2FFD-47C2-9DDC-E4F3DAC0F0D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41C530E-9CE4-4FCE-B0E6-5D8435249CE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DD96A17-BB17-4381-A931-212B57D7EDA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D3D6C19-CB47-4287-84A9-DABDC54E3C9E}"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F4E5123-B3EB-4465-ABE4-50DFE811BB8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397D0B5-BBE0-48C0-BB36-507807B736B9}"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18A06DC1-2864-4E2F-8A6F-1B381B9E9794}"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E9E6E01C-58EE-4BD2-A027-389BB696B2D8}"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516901A-1807-411B-84DE-CE1A1722A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551D6F7-38F1-43A2-8690-BF2EA0155E1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B05B3FA1-31D0-410B-9E20-C6388B39019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5C12160-6E1E-4ACD-B291-61C671AE08F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151B8234-21DA-4B52-8C2F-2DD9A4F2BE2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1B9A8C6-B897-48F8-9600-CA9DA83F47D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4B9C9BF-8F23-49D8-AA25-53C9B734109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8CC3AAF-0B7C-41C3-8450-D46E4B71D22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3CB48B0-E79D-4692-89A1-0C4DB7094D6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A3DD326-038A-40C3-89C7-C047463D329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308510F4-68D8-47CD-8387-8C467A98AF78}"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66502-4E2C-43BB-BD48-2BE205D03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02B9057C-9421-4236-A135-08DF8BDC2B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C0891BA8-18D3-4133-881C-E22685AE87D6}"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92AC5359-4E00-4196-A815-36782413A977}" type="slidenum">
              <a:t>&lt;#&gt;</a:t>
            </a:fld>
          </a:p>
        </p:txBody>
      </p:sp>
      <p:sp>
        <p:nvSpPr>
          <p:cNvPr id="3" name="PlaceHolder 2"/>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5"/>
          </p:nvPr>
        </p:nvSpPr>
        <p:spPr/>
        <p:txBody>
          <a:bodyPr/>
          <a:p>
            <a:fld id="{AF647587-A833-4201-B934-C2A6D3F16714}"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5"/>
          </p:nvPr>
        </p:nvSpPr>
        <p:spPr/>
        <p:txBody>
          <a:bodyPr/>
          <a:p>
            <a:fld id="{5B53B2CE-8D9A-410F-BC68-A794A9B87C54}"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5"/>
          </p:nvPr>
        </p:nvSpPr>
        <p:spPr/>
        <p:txBody>
          <a:bodyPr/>
          <a:p>
            <a:fld id="{8D10A02D-571F-4588-B284-806DBD2DAB0F}"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5"/>
          </p:nvPr>
        </p:nvSpPr>
        <p:spPr/>
        <p:txBody>
          <a:bodyPr/>
          <a:p>
            <a:fld id="{05250F7F-1866-4AAE-9575-1E5CCC63B654}"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5"/>
          </p:nvPr>
        </p:nvSpPr>
        <p:spPr/>
        <p:txBody>
          <a:bodyPr/>
          <a:p>
            <a:fld id="{861717FC-17F8-4384-9403-8BBDF79A4587}"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1EB88A64-19A3-410A-ADBB-DCFB0A9CF148}"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788F87AE-242C-4D6F-83DB-7134A163F3E0}"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EFCDA350-0C6B-4123-83AF-D53BD5A7C21E}"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3C53D03C-D039-4796-8F1A-AD1E18879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5"/>
          </p:nvPr>
        </p:nvSpPr>
        <p:spPr/>
        <p:txBody>
          <a:bodyPr/>
          <a:p>
            <a:fld id="{FF7B560F-A4AD-4CCF-B7D9-65ADC352D7F4}"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5"/>
          </p:nvPr>
        </p:nvSpPr>
        <p:spPr/>
        <p:txBody>
          <a:bodyPr/>
          <a:p>
            <a:fld id="{318AC83D-45E2-49F4-B690-2CBF096CCBE6}"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5"/>
          </p:nvPr>
        </p:nvSpPr>
        <p:spPr/>
        <p:txBody>
          <a:bodyPr/>
          <a:p>
            <a:fld id="{EFD7BD88-2736-4C6E-9ECA-6CD7CA62BC57}" type="slidenum">
              <a:t>&lt;#&gt;</a:t>
            </a:fld>
          </a:p>
        </p:txBody>
      </p:sp>
      <p:sp>
        <p:nvSpPr>
          <p:cNvPr id="10" name="PlaceHolder 9"/>
          <p:cNvSpPr>
            <a:spLocks noGrp="1"/>
          </p:cNvSpPr>
          <p:nvPr>
            <p:ph type="dt" idx="7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15A6673A-B1E9-4C78-8661-EFE613960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AD87C26E-4067-4E68-A3A0-53A3F51E4F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B48E6D4C-4A0A-4FE9-8856-AEE56B1D5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0873656C-1575-471A-A2C3-39FFC81E7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1DDA7436-1B15-4AB9-91CB-13718C2027E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0436457-376E-4FF0-A293-96BB201E375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03385A27-AA7B-46C9-BDEB-7E168B6529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613815B8-D65B-43D9-B86D-984E658DE9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22454-BCDC-4824-B916-2E4EE327A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95C46C43-F0E9-4D6B-939E-992B9EA5AF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D7AB5CD4-660C-468B-B49C-981D5319D5A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F51C8C1F-B0AA-4ED0-99F0-D3A6A0FABC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7A58AB7B-8A95-4946-8F52-A64F05CA2F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6EF04913-88D0-4A03-ADF9-713D403A05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7FB495E2-F679-46E0-BE83-DE64D8CDF5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F10B0C89-1F97-4DB7-B78B-3D33E04304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386948DC-8FD1-41C3-909C-D6EB5AE2C5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092E1176-46B1-4A05-A4CB-0A0D05E26EA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4F8A6F3-661B-4418-84C6-7138E2512B2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00F2C-3286-4AEC-8E5A-793B08A6E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9F5C191-9533-4457-A68E-8652CF7950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C849163-EA29-43A7-A391-76FEB12DDC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1A565AE-AED3-4F08-BCC7-BCCF9EFE99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9F7798B-BF38-4CBB-BF14-54D93676AEF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0BC3F4B-F60C-47E2-81B3-0AA97DE99CD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E2F394F-0A13-4A62-9FB3-B7BE1EF80EC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460DA01-8823-43CD-9D39-755375E475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E1D391B-EACE-449B-8BCB-719C61A6C5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E2D3D7B-9104-4754-A27A-227CDA0FA0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51F85B8-D2CD-4C99-9EB2-94A5504B887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AF7EF-DD42-4D4A-978B-E644E5212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886BDDC-E93F-4740-BAD8-F71570B6058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2B2D8F3-5B39-4FD8-A95C-65C618ED246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9614254-72A5-4840-A5EA-86056B9ABC9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2880A2E-4955-42EB-B4E0-C2C613E6A25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E00CA7E-74F0-4ABC-84EA-5F085ED8530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0BA5A80-6480-4F90-9B41-350C83B52F2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5E4AB95-C674-4D2C-9209-86F4E8E4B9A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E778DC3-132C-447C-9359-E6A8822E22D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655DE80-E649-408F-9E8B-375E82A24FF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52BCEBF-1581-41A3-A1EB-27FBDC593B8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A2E68-6BC9-405A-89FA-FD61F623F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9A638C5-A348-4BCA-9D70-B72C384316C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DDE0DFD-9CA7-48A2-BF5A-962959700E0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7B5D692-35C6-47F7-B61D-DF9A64E5B5E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F62BE6D-0BB1-4DC9-B5AD-9123021F002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356F9D-5E26-46D7-AFD2-797731925BD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62ACACE-AFD6-4D3C-9EE0-9B96478BCCF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B9D6893-895D-4E3F-845B-FD88D628D78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1074D5-0689-4F2F-942F-8577186E224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C090F5D-1936-4D1B-A40A-5D043CBE85B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C89ECC-3352-4804-8080-EA18A12884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119E3-BB00-4467-8555-41DF7DCE9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F5FA0EA-7404-4816-B1C4-F4F00961B94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55E47A2-879C-4643-9C91-024DEE5F86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ACBE496-1666-4215-A904-CCC2C0EF2BB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DE7D55A-39B1-4D09-BC04-175E2F3A0E5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6A4748F-1338-4740-964C-0E51E62C98C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FE1B11A-67E4-4CCB-B8E2-2DB00FAE3E5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E8485C2-E3D6-4360-A933-86DEAD50112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65AAEEF-4570-433E-8B8B-D368A76C18F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2815B4-5D72-4065-84B7-F1C89D97839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55CDFF3-F436-4F63-B82E-F2FAA030C06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A2B1-FB64-459C-8924-4052D0909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967B985-921B-4CDC-9310-595ACBBB37E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D3DF5EF-2BD9-413A-A8D5-96083C81508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FE5EDD-4AD7-4867-BD20-8D4275391FA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FD3AA39-C938-4E50-9D4D-61AD1A3EF6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EF3651D-9E47-44C2-8385-0CA13E30298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EE196DA-9E6A-4F55-9254-78FF5CAB3E3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9C46244-DF2D-4A4C-80A6-A752930376A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4489048-89F3-4DC9-BAB0-BA0DEBA9C66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8527A23-7E14-4DCE-9FCB-BBF8B2B46F6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A064D6-97E1-4068-BF09-72B9DE6D0AFC}"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5F7B-E178-4F55-9028-389435ADDF3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2"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3"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4"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5745-3235-4439-9C51-241ABD07AA4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3"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4"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5"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2E11-115D-464D-8745-FE70BBB50BE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54"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5"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6"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54F4-982D-4891-BE4A-ABE27345525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9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5"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6"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7"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EC62-3DDE-4B44-ADC3-9582FBDDB31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Picture 8" descr=""/>
          <p:cNvPicPr/>
          <p:nvPr/>
        </p:nvPicPr>
        <p:blipFill>
          <a:blip r:embed="rId2"/>
          <a:stretch/>
        </p:blipFill>
        <p:spPr>
          <a:xfrm>
            <a:off x="7224840" y="0"/>
            <a:ext cx="1919160" cy="1440000"/>
          </a:xfrm>
          <a:prstGeom prst="rect">
            <a:avLst/>
          </a:prstGeom>
          <a:ln w="0">
            <a:noFill/>
          </a:ln>
        </p:spPr>
      </p:pic>
      <p:pic>
        <p:nvPicPr>
          <p:cNvPr id="535" name="Picture 7" descr=""/>
          <p:cNvPicPr/>
          <p:nvPr/>
        </p:nvPicPr>
        <p:blipFill>
          <a:blip r:embed="rId3"/>
          <a:stretch/>
        </p:blipFill>
        <p:spPr>
          <a:xfrm>
            <a:off x="0" y="0"/>
            <a:ext cx="9144000" cy="6858000"/>
          </a:xfrm>
          <a:prstGeom prst="rect">
            <a:avLst/>
          </a:prstGeom>
          <a:ln w="0">
            <a:noFill/>
          </a:ln>
        </p:spPr>
      </p:pic>
      <p:sp>
        <p:nvSpPr>
          <p:cNvPr id="5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37"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3B51-DF43-4C5C-AB58-BDE07B135045}"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8" descr=""/>
          <p:cNvPicPr/>
          <p:nvPr/>
        </p:nvPicPr>
        <p:blipFill>
          <a:blip r:embed="rId2"/>
          <a:stretch/>
        </p:blipFill>
        <p:spPr>
          <a:xfrm>
            <a:off x="7224840" y="0"/>
            <a:ext cx="1919160" cy="1440000"/>
          </a:xfrm>
          <a:prstGeom prst="rect">
            <a:avLst/>
          </a:prstGeom>
          <a:ln w="0">
            <a:noFill/>
          </a:ln>
        </p:spPr>
      </p:pic>
      <p:sp>
        <p:nvSpPr>
          <p:cNvPr id="5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79"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3800-8B5B-401C-9C0B-8B4C400BD9B2}"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8" descr=""/>
          <p:cNvPicPr/>
          <p:nvPr/>
        </p:nvPicPr>
        <p:blipFill>
          <a:blip r:embed="rId2"/>
          <a:stretch/>
        </p:blipFill>
        <p:spPr>
          <a:xfrm>
            <a:off x="7224840" y="0"/>
            <a:ext cx="1919160" cy="1440000"/>
          </a:xfrm>
          <a:prstGeom prst="rect">
            <a:avLst/>
          </a:prstGeom>
          <a:ln w="0">
            <a:noFill/>
          </a:ln>
        </p:spPr>
      </p:pic>
      <p:pic>
        <p:nvPicPr>
          <p:cNvPr id="620" name="Picture 7" descr="thesea"/>
          <p:cNvPicPr/>
          <p:nvPr/>
        </p:nvPicPr>
        <p:blipFill>
          <a:blip r:embed="rId3"/>
          <a:stretch/>
        </p:blipFill>
        <p:spPr>
          <a:xfrm>
            <a:off x="0" y="0"/>
            <a:ext cx="9144000" cy="6858000"/>
          </a:xfrm>
          <a:prstGeom prst="rect">
            <a:avLst/>
          </a:prstGeom>
          <a:ln w="0">
            <a:noFill/>
          </a:ln>
        </p:spPr>
      </p:pic>
      <p:sp>
        <p:nvSpPr>
          <p:cNvPr id="62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2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3"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24"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5"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897B-2F8C-446E-917A-174F0160340A}"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Picture 8" descr=""/>
          <p:cNvPicPr/>
          <p:nvPr/>
        </p:nvPicPr>
        <p:blipFill>
          <a:blip r:embed="rId2"/>
          <a:stretch/>
        </p:blipFill>
        <p:spPr>
          <a:xfrm>
            <a:off x="7224840" y="0"/>
            <a:ext cx="1919160" cy="1440000"/>
          </a:xfrm>
          <a:prstGeom prst="rect">
            <a:avLst/>
          </a:prstGeom>
          <a:ln w="0">
            <a:noFill/>
          </a:ln>
        </p:spPr>
      </p:pic>
      <p:sp>
        <p:nvSpPr>
          <p:cNvPr id="6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64"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65"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66"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67"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8943-9BA6-401D-B277-50BEB6DC616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8" descr=""/>
          <p:cNvPicPr/>
          <p:nvPr/>
        </p:nvPicPr>
        <p:blipFill>
          <a:blip r:embed="rId2"/>
          <a:stretch/>
        </p:blipFill>
        <p:spPr>
          <a:xfrm>
            <a:off x="7224840" y="0"/>
            <a:ext cx="1919160" cy="1440000"/>
          </a:xfrm>
          <a:prstGeom prst="rect">
            <a:avLst/>
          </a:prstGeom>
          <a:ln w="0">
            <a:noFill/>
          </a:ln>
        </p:spPr>
      </p:pic>
      <p:sp>
        <p:nvSpPr>
          <p:cNvPr id="7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06"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07"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8"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09"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C7F5-3EE5-4E0F-A743-55794D747591}"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8" descr=""/>
          <p:cNvPicPr/>
          <p:nvPr/>
        </p:nvPicPr>
        <p:blipFill>
          <a:blip r:embed="rId2"/>
          <a:stretch/>
        </p:blipFill>
        <p:spPr>
          <a:xfrm>
            <a:off x="7224840" y="0"/>
            <a:ext cx="1919160" cy="1440000"/>
          </a:xfrm>
          <a:prstGeom prst="rect">
            <a:avLst/>
          </a:prstGeom>
          <a:ln w="0">
            <a:noFill/>
          </a:ln>
        </p:spPr>
      </p:pic>
      <p:sp>
        <p:nvSpPr>
          <p:cNvPr id="7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48"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49"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0"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51"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D96A-E666-4D11-856B-E6E20828759C}"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9614-E908-4526-9541-122A81A419B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6" name="Picture 8" descr=""/>
          <p:cNvPicPr/>
          <p:nvPr/>
        </p:nvPicPr>
        <p:blipFill>
          <a:blip r:embed="rId2"/>
          <a:stretch/>
        </p:blipFill>
        <p:spPr>
          <a:xfrm>
            <a:off x="7224840" y="0"/>
            <a:ext cx="1919160" cy="14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Picture 8" descr=""/>
          <p:cNvPicPr/>
          <p:nvPr/>
        </p:nvPicPr>
        <p:blipFill>
          <a:blip r:embed="rId2"/>
          <a:stretch/>
        </p:blipFill>
        <p:spPr>
          <a:xfrm>
            <a:off x="7224840" y="0"/>
            <a:ext cx="1919160" cy="1440000"/>
          </a:xfrm>
          <a:prstGeom prst="rect">
            <a:avLst/>
          </a:prstGeom>
          <a:ln w="0">
            <a:noFill/>
          </a:ln>
        </p:spPr>
      </p:pic>
      <p:sp>
        <p:nvSpPr>
          <p:cNvPr id="78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90"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1" name="PlaceHolder 3"/>
          <p:cNvSpPr>
            <a:spLocks noGrp="1"/>
          </p:cNvSpPr>
          <p:nvPr>
            <p:ph type="dt" idx="5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2" name="PlaceHolder 4"/>
          <p:cNvSpPr>
            <a:spLocks noGrp="1"/>
          </p:cNvSpPr>
          <p:nvPr>
            <p:ph type="ftr" idx="5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93" name="PlaceHolder 5"/>
          <p:cNvSpPr>
            <a:spLocks noGrp="1"/>
          </p:cNvSpPr>
          <p:nvPr>
            <p:ph type="sldNum" idx="5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D9AC-71BA-49A8-AD62-84187321224A}"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8" descr=""/>
          <p:cNvPicPr/>
          <p:nvPr/>
        </p:nvPicPr>
        <p:blipFill>
          <a:blip r:embed="rId2"/>
          <a:stretch/>
        </p:blipFill>
        <p:spPr>
          <a:xfrm>
            <a:off x="7224840" y="0"/>
            <a:ext cx="1919160" cy="1440000"/>
          </a:xfrm>
          <a:prstGeom prst="rect">
            <a:avLst/>
          </a:prstGeom>
          <a:ln w="0">
            <a:noFill/>
          </a:ln>
        </p:spPr>
      </p:pic>
      <p:sp>
        <p:nvSpPr>
          <p:cNvPr id="8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33" name="PlaceHolder 3"/>
          <p:cNvSpPr>
            <a:spLocks noGrp="1"/>
          </p:cNvSpPr>
          <p:nvPr>
            <p:ph type="dt" idx="5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4" name="PlaceHolder 4"/>
          <p:cNvSpPr>
            <a:spLocks noGrp="1"/>
          </p:cNvSpPr>
          <p:nvPr>
            <p:ph type="ftr" idx="6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35" name="PlaceHolder 5"/>
          <p:cNvSpPr>
            <a:spLocks noGrp="1"/>
          </p:cNvSpPr>
          <p:nvPr>
            <p:ph type="sldNum" idx="6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8A4C5-8FCA-448B-8E35-7D22499AAAC9}"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8" descr=""/>
          <p:cNvPicPr/>
          <p:nvPr/>
        </p:nvPicPr>
        <p:blipFill>
          <a:blip r:embed="rId2"/>
          <a:stretch/>
        </p:blipFill>
        <p:spPr>
          <a:xfrm>
            <a:off x="7224840" y="0"/>
            <a:ext cx="1919160" cy="1440000"/>
          </a:xfrm>
          <a:prstGeom prst="rect">
            <a:avLst/>
          </a:prstGeom>
          <a:ln w="0">
            <a:noFill/>
          </a:ln>
        </p:spPr>
      </p:pic>
      <p:sp>
        <p:nvSpPr>
          <p:cNvPr id="8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74"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5" name="PlaceHolder 3"/>
          <p:cNvSpPr>
            <a:spLocks noGrp="1"/>
          </p:cNvSpPr>
          <p:nvPr>
            <p:ph type="dt" idx="6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6" name="PlaceHolder 4"/>
          <p:cNvSpPr>
            <a:spLocks noGrp="1"/>
          </p:cNvSpPr>
          <p:nvPr>
            <p:ph type="ftr" idx="6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77" name="PlaceHolder 5"/>
          <p:cNvSpPr>
            <a:spLocks noGrp="1"/>
          </p:cNvSpPr>
          <p:nvPr>
            <p:ph type="sldNum" idx="6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89EC-8CE7-4CD9-9427-1010853E8650}"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4" name="Picture 8" descr=""/>
          <p:cNvPicPr/>
          <p:nvPr/>
        </p:nvPicPr>
        <p:blipFill>
          <a:blip r:embed="rId2"/>
          <a:stretch/>
        </p:blipFill>
        <p:spPr>
          <a:xfrm>
            <a:off x="7224840" y="0"/>
            <a:ext cx="1919160" cy="1440000"/>
          </a:xfrm>
          <a:prstGeom prst="rect">
            <a:avLst/>
          </a:prstGeom>
          <a:ln w="0">
            <a:noFill/>
          </a:ln>
        </p:spPr>
      </p:pic>
      <p:sp>
        <p:nvSpPr>
          <p:cNvPr id="9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16"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7" name="PlaceHolder 3"/>
          <p:cNvSpPr>
            <a:spLocks noGrp="1"/>
          </p:cNvSpPr>
          <p:nvPr>
            <p:ph type="dt" idx="6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8" name="PlaceHolder 4"/>
          <p:cNvSpPr>
            <a:spLocks noGrp="1"/>
          </p:cNvSpPr>
          <p:nvPr>
            <p:ph type="ftr" idx="6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9" name="PlaceHolder 5"/>
          <p:cNvSpPr>
            <a:spLocks noGrp="1"/>
          </p:cNvSpPr>
          <p:nvPr>
            <p:ph type="sldNum" idx="6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F98D-AC46-4438-8F3B-728E5E4BB39F}"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6" name="Picture 8" descr=""/>
          <p:cNvPicPr/>
          <p:nvPr/>
        </p:nvPicPr>
        <p:blipFill>
          <a:blip r:embed="rId2"/>
          <a:stretch/>
        </p:blipFill>
        <p:spPr>
          <a:xfrm>
            <a:off x="7224840" y="0"/>
            <a:ext cx="1919160" cy="1440000"/>
          </a:xfrm>
          <a:prstGeom prst="rect">
            <a:avLst/>
          </a:prstGeom>
          <a:ln w="0">
            <a:noFill/>
          </a:ln>
        </p:spPr>
      </p:pic>
      <p:sp>
        <p:nvSpPr>
          <p:cNvPr id="9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8"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9" name="PlaceHolder 3"/>
          <p:cNvSpPr>
            <a:spLocks noGrp="1"/>
          </p:cNvSpPr>
          <p:nvPr>
            <p:ph type="dt" idx="6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0" name="PlaceHolder 4"/>
          <p:cNvSpPr>
            <a:spLocks noGrp="1"/>
          </p:cNvSpPr>
          <p:nvPr>
            <p:ph type="ftr" idx="6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61" name="PlaceHolder 5"/>
          <p:cNvSpPr>
            <a:spLocks noGrp="1"/>
          </p:cNvSpPr>
          <p:nvPr>
            <p:ph type="sldNum" idx="7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C90C-A5EF-41E2-992E-40AF92E2EA6C}"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Picture 8" descr=""/>
          <p:cNvPicPr/>
          <p:nvPr/>
        </p:nvPicPr>
        <p:blipFill>
          <a:blip r:embed="rId2"/>
          <a:stretch/>
        </p:blipFill>
        <p:spPr>
          <a:xfrm>
            <a:off x="7224840" y="0"/>
            <a:ext cx="1919160" cy="1440000"/>
          </a:xfrm>
          <a:prstGeom prst="rect">
            <a:avLst/>
          </a:prstGeom>
          <a:ln w="0">
            <a:noFill/>
          </a:ln>
        </p:spPr>
      </p:pic>
      <p:sp>
        <p:nvSpPr>
          <p:cNvPr id="9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00"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1" name="PlaceHolder 3"/>
          <p:cNvSpPr>
            <a:spLocks noGrp="1"/>
          </p:cNvSpPr>
          <p:nvPr>
            <p:ph type="dt" idx="7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2" name="PlaceHolder 4"/>
          <p:cNvSpPr>
            <a:spLocks noGrp="1"/>
          </p:cNvSpPr>
          <p:nvPr>
            <p:ph type="ftr" idx="7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03" name="PlaceHolder 5"/>
          <p:cNvSpPr>
            <a:spLocks noGrp="1"/>
          </p:cNvSpPr>
          <p:nvPr>
            <p:ph type="sldNum" idx="7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C849-FA58-4C3E-9CE1-96D98E544E1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Picture 8" descr=""/>
          <p:cNvPicPr/>
          <p:nvPr/>
        </p:nvPicPr>
        <p:blipFill>
          <a:blip r:embed="rId2"/>
          <a:stretch/>
        </p:blipFill>
        <p:spPr>
          <a:xfrm>
            <a:off x="7224840" y="0"/>
            <a:ext cx="1919160" cy="1440000"/>
          </a:xfrm>
          <a:prstGeom prst="rect">
            <a:avLst/>
          </a:prstGeom>
          <a:ln w="0">
            <a:noFill/>
          </a:ln>
        </p:spPr>
      </p:pic>
      <p:pic>
        <p:nvPicPr>
          <p:cNvPr id="1041" name="Picture 6" descr="erasmus_mundus_ppt_inner_pages.jpg"/>
          <p:cNvPicPr/>
          <p:nvPr/>
        </p:nvPicPr>
        <p:blipFill>
          <a:blip r:embed="rId3"/>
          <a:stretch/>
        </p:blipFill>
        <p:spPr>
          <a:xfrm>
            <a:off x="-144360" y="0"/>
            <a:ext cx="9396360" cy="6858000"/>
          </a:xfrm>
          <a:prstGeom prst="rect">
            <a:avLst/>
          </a:prstGeom>
          <a:ln w="0">
            <a:noFill/>
          </a:ln>
        </p:spPr>
      </p:pic>
      <p:sp>
        <p:nvSpPr>
          <p:cNvPr id="104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43"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44" name="PlaceHolder 3"/>
          <p:cNvSpPr>
            <a:spLocks noGrp="1"/>
          </p:cNvSpPr>
          <p:nvPr>
            <p:ph type="dt" idx="7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45" name="PlaceHolder 4"/>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7CDC-8A60-44D0-9E74-1DE3EBB51F42}"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erasmus_mundus_ppt_cover.jpg"/>
          <p:cNvPicPr/>
          <p:nvPr/>
        </p:nvPicPr>
        <p:blipFill>
          <a:blip r:embed="rId2"/>
          <a:stretch/>
        </p:blipFill>
        <p:spPr>
          <a:xfrm>
            <a:off x="-108000" y="0"/>
            <a:ext cx="9433080" cy="6858000"/>
          </a:xfrm>
          <a:prstGeom prst="rect">
            <a:avLst/>
          </a:prstGeom>
          <a:ln w="0">
            <a:noFill/>
          </a:ln>
        </p:spPr>
      </p:pic>
      <p:sp>
        <p:nvSpPr>
          <p:cNvPr id="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87CE-871F-40A7-8D9C-A87C2A8F5C39}"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erasmus_mundus_ppt_inner_pages.jpg"/>
          <p:cNvPicPr/>
          <p:nvPr/>
        </p:nvPicPr>
        <p:blipFill>
          <a:blip r:embed="rId2"/>
          <a:stretch/>
        </p:blipFill>
        <p:spPr>
          <a:xfrm>
            <a:off x="-144360" y="0"/>
            <a:ext cx="9396360" cy="6858000"/>
          </a:xfrm>
          <a:prstGeom prst="rect">
            <a:avLst/>
          </a:prstGeom>
          <a:ln w="0">
            <a:noFill/>
          </a:ln>
        </p:spPr>
      </p:pic>
      <p:sp>
        <p:nvSpPr>
          <p:cNvPr id="1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28"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B71E-6B0A-4C4F-8D6D-9759CF38A1A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6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67"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8"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F87F-F7AC-4CDB-8E5D-2EEFCAFCE66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0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08"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09"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0"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3281-F2EB-4B90-A07A-29103C2C24D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4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4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1"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0D79-9B0D-42CF-AF6B-AAB9105B0007}"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3D7F-371D-4B31-BA3B-9C63E795178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1"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2"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3"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506C-7229-4C8D-937C-45951CD80B4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1258560" y="1125000"/>
            <a:ext cx="6553080" cy="208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800" spc="-1" strike="noStrike">
                <a:solidFill>
                  <a:srgbClr val="ffd624"/>
                </a:solidFill>
                <a:latin typeface="Verdana"/>
              </a:rPr>
              <a:t>Erasmus Mundus</a:t>
            </a:r>
            <a:endParaRPr b="1" lang="en-US" sz="4800" spc="-1" strike="noStrike">
              <a:solidFill>
                <a:srgbClr val="0f5494"/>
              </a:solidFill>
              <a:latin typeface="Verdana"/>
            </a:endParaRPr>
          </a:p>
        </p:txBody>
      </p:sp>
      <p:sp>
        <p:nvSpPr>
          <p:cNvPr id="1090" name=""/>
          <p:cNvSpPr txBox="1"/>
          <p:nvPr/>
        </p:nvSpPr>
        <p:spPr>
          <a:xfrm>
            <a:off x="0" y="2924280"/>
            <a:ext cx="9144000" cy="2449440"/>
          </a:xfrm>
          <a:prstGeom prst="rect">
            <a:avLst/>
          </a:prstGeom>
          <a:noFill/>
          <a:ln w="0">
            <a:noFill/>
          </a:ln>
        </p:spPr>
        <p:txBody>
          <a:bodyPr anchor="t">
            <a:normAutofit fontScale="92000"/>
          </a:bodyPr>
          <a:p>
            <a:pPr marL="315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Evento conjunto ALFA y EM-Acción 2</a:t>
            </a:r>
            <a:endParaRPr b="0" i="1" lang="en-US" sz="3000" spc="-1" strike="noStrike">
              <a:solidFill>
                <a:srgbClr val="0f5494"/>
              </a:solidFill>
              <a:latin typeface="Verdana"/>
            </a:endParaRPr>
          </a:p>
          <a:p>
            <a:pPr marL="315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000" spc="-1" strike="noStrike">
                <a:solidFill>
                  <a:srgbClr val="ffffff"/>
                </a:solidFill>
                <a:latin typeface="Verdana"/>
              </a:rPr>
              <a:t>Mirando hacia el futuro</a:t>
            </a:r>
            <a:endParaRPr b="0" i="1" lang="en-US" sz="3000" spc="-1" strike="noStrike">
              <a:solidFill>
                <a:srgbClr val="0f5494"/>
              </a:solidFill>
              <a:latin typeface="Verdana"/>
            </a:endParaRPr>
          </a:p>
          <a:p>
            <a:pPr marL="3153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Impacto y Resultados de EM-Acción 2 (AL)</a:t>
            </a:r>
            <a:endParaRPr b="0" i="1" lang="en-US" sz="1800" spc="-1" strike="noStrike">
              <a:solidFill>
                <a:srgbClr val="0f5494"/>
              </a:solidFill>
              <a:latin typeface="Verdana"/>
            </a:endParaRPr>
          </a:p>
          <a:p>
            <a:pPr marL="3153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26 de Junio 2014, Lima </a:t>
            </a:r>
            <a:endParaRPr b="0" i="1" lang="en-US" sz="1800" spc="-1" strike="noStrike">
              <a:solidFill>
                <a:srgbClr val="0f5494"/>
              </a:solidFill>
              <a:latin typeface="Verdana"/>
            </a:endParaRPr>
          </a:p>
          <a:p>
            <a:pPr marL="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i="1" lang="fr-BE" sz="2400" spc="-1" strike="noStrike">
                <a:solidFill>
                  <a:srgbClr val="ffffff"/>
                </a:solidFill>
                <a:latin typeface="Verdana"/>
              </a:rPr>
              <a:t>	</a:t>
            </a:r>
            <a:r>
              <a:rPr b="1" i="1" lang="fr-BE" sz="2400" spc="-1" strike="noStrike">
                <a:solidFill>
                  <a:srgbClr val="ffffff"/>
                </a:solidFill>
                <a:latin typeface="Verdana"/>
              </a:rPr>
              <a:t>	</a:t>
            </a:r>
            <a:r>
              <a:rPr b="1" i="1" lang="fr-BE" sz="2400" spc="-1" strike="noStrike">
                <a:solidFill>
                  <a:srgbClr val="ffffff"/>
                </a:solidFill>
                <a:latin typeface="Verdana"/>
              </a:rPr>
              <a:t>	</a:t>
            </a:r>
            <a:endParaRPr b="0" i="1" lang="en-US" sz="2400" spc="-1" strike="noStrike">
              <a:solidFill>
                <a:srgbClr val="0f5494"/>
              </a:solidFill>
              <a:latin typeface="Verdana"/>
            </a:endParaRPr>
          </a:p>
        </p:txBody>
      </p:sp>
      <p:sp>
        <p:nvSpPr>
          <p:cNvPr id="1091" name="Rectangle 3"/>
          <p:cNvSpPr/>
          <p:nvPr/>
        </p:nvSpPr>
        <p:spPr>
          <a:xfrm>
            <a:off x="5830920" y="5950080"/>
            <a:ext cx="331308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400" spc="-1" strike="noStrike">
                <a:solidFill>
                  <a:srgbClr val="ffffff"/>
                </a:solidFill>
                <a:latin typeface="Verdana"/>
                <a:ea typeface="Arial"/>
              </a:rPr>
              <a:t>M</a:t>
            </a:r>
            <a:r>
              <a:rPr b="1" i="1" lang="el-GR" sz="1400" spc="-1" strike="noStrike">
                <a:solidFill>
                  <a:srgbClr val="ffffff"/>
                </a:solidFill>
                <a:latin typeface="Verdana"/>
                <a:ea typeface="Arial"/>
              </a:rPr>
              <a:t>ό</a:t>
            </a:r>
            <a:r>
              <a:rPr b="1" i="1" lang="fr-BE" sz="1400" spc="-1" strike="noStrike">
                <a:solidFill>
                  <a:srgbClr val="ffffff"/>
                </a:solidFill>
                <a:latin typeface="Verdana"/>
                <a:ea typeface="Arial"/>
              </a:rPr>
              <a:t>nika Holik</a:t>
            </a:r>
            <a:r>
              <a:rPr b="1" i="1" lang="fr-BE" sz="1200" spc="-1" strike="noStrike">
                <a:solidFill>
                  <a:srgbClr val="ffffff"/>
                </a:solidFill>
                <a:latin typeface="Verdana"/>
                <a:ea typeface="Arial"/>
              </a:rPr>
              <a:t>, EACEA</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a:ea typeface="Arial"/>
              </a:rPr>
              <a:t>Unidad A3 – Erasmu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a:ea typeface="Arial"/>
              </a:rPr>
              <a:t>Educación Superior – Programas conjuntos de Maestrías</a:t>
            </a:r>
            <a:endParaRPr b="1" lang="en-US" sz="1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7" name="Chart 4"/>
          <p:cNvGraphicFramePr/>
          <p:nvPr/>
        </p:nvGraphicFramePr>
        <p:xfrm>
          <a:off x="1895400" y="1890720"/>
          <a:ext cx="6858000" cy="5067360"/>
        </p:xfrm>
        <a:graphic>
          <a:graphicData uri="http://schemas.openxmlformats.org/presentationml/2006/ole">
            <p:oleObj progId="Excel.Sheet.12" r:id="rId1" spid="">
              <p:embed/>
              <p:pic>
                <p:nvPicPr>
                  <p:cNvPr id="1148" name="Chart 4" descr=""/>
                  <p:cNvPicPr/>
                  <p:nvPr/>
                </p:nvPicPr>
                <p:blipFill>
                  <a:blip r:embed="rId2"/>
                  <a:stretch/>
                </p:blipFill>
                <p:spPr>
                  <a:xfrm>
                    <a:off x="1895400" y="1890720"/>
                    <a:ext cx="6858000" cy="5067360"/>
                  </a:xfrm>
                  <a:prstGeom prst="rect">
                    <a:avLst/>
                  </a:prstGeom>
                  <a:ln w="0">
                    <a:noFill/>
                  </a:ln>
                </p:spPr>
              </p:pic>
            </p:oleObj>
          </a:graphicData>
        </a:graphic>
      </p:graphicFrame>
      <p:sp>
        <p:nvSpPr>
          <p:cNvPr id="1149" name="TextBox 5"/>
          <p:cNvSpPr/>
          <p:nvPr/>
        </p:nvSpPr>
        <p:spPr>
          <a:xfrm>
            <a:off x="0" y="2421000"/>
            <a:ext cx="1944720" cy="4055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ea typeface="Arial"/>
              </a:rPr>
              <a:t>456</a:t>
            </a:r>
            <a:r>
              <a:rPr b="0" lang="en-GB" sz="1400" spc="-1" strike="noStrike">
                <a:solidFill>
                  <a:srgbClr val="0f5494"/>
                </a:solidFill>
                <a:latin typeface="Verdana"/>
                <a:ea typeface="Arial"/>
              </a:rPr>
              <a:t> participaciones de </a:t>
            </a:r>
            <a:r>
              <a:rPr b="1" lang="en-GB" sz="1400" spc="-1" strike="noStrike">
                <a:solidFill>
                  <a:srgbClr val="0f5494"/>
                </a:solidFill>
                <a:latin typeface="Verdana"/>
                <a:ea typeface="Arial"/>
              </a:rPr>
              <a:t>196</a:t>
            </a:r>
            <a:r>
              <a:rPr b="0" lang="en-GB" sz="1400" spc="-1" strike="noStrike">
                <a:solidFill>
                  <a:srgbClr val="0f5494"/>
                </a:solidFill>
                <a:latin typeface="Verdana"/>
                <a:ea typeface="Arial"/>
              </a:rPr>
              <a:t> </a:t>
            </a:r>
            <a:r>
              <a:rPr b="0" lang="en-GB" sz="1400" spc="-1" strike="noStrike" u="sng">
                <a:solidFill>
                  <a:srgbClr val="0f5494"/>
                </a:solidFill>
                <a:uFillTx/>
                <a:latin typeface="Verdana"/>
                <a:ea typeface="Arial"/>
              </a:rPr>
              <a:t>universidades de América Latina</a:t>
            </a:r>
            <a:endParaRPr b="1" lang="en-US" sz="1400" spc="-1" strike="noStrike">
              <a:solidFill>
                <a:srgbClr val="ffd624"/>
              </a:solidFill>
              <a:latin typeface="Verdana"/>
            </a:endParaRPr>
          </a:p>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f5494"/>
                </a:solidFill>
                <a:latin typeface="Verdana"/>
                <a:ea typeface="Arial"/>
              </a:rPr>
              <a:t>111 </a:t>
            </a:r>
            <a:r>
              <a:rPr b="0" i="1" lang="en-GB" sz="1100" spc="-1" strike="noStrike">
                <a:solidFill>
                  <a:srgbClr val="0f5494"/>
                </a:solidFill>
                <a:latin typeface="Verdana"/>
                <a:ea typeface="Arial"/>
              </a:rPr>
              <a:t>participaciones de </a:t>
            </a:r>
            <a:r>
              <a:rPr b="1" i="1" lang="en-GB" sz="1100" spc="-1" strike="noStrike">
                <a:solidFill>
                  <a:srgbClr val="0f5494"/>
                </a:solidFill>
                <a:latin typeface="Verdana"/>
                <a:ea typeface="Arial"/>
              </a:rPr>
              <a:t>55 </a:t>
            </a:r>
            <a:r>
              <a:rPr b="0" i="1" lang="en-GB" sz="1100" spc="-1" strike="noStrike">
                <a:solidFill>
                  <a:srgbClr val="0f5494"/>
                </a:solidFill>
                <a:latin typeface="Verdana"/>
                <a:ea typeface="Arial"/>
              </a:rPr>
              <a:t>universidades de América Latina provenientes de países del </a:t>
            </a:r>
            <a:r>
              <a:rPr b="1" i="1" lang="en-GB" sz="1100" spc="-1" strike="noStrike">
                <a:solidFill>
                  <a:srgbClr val="0f5494"/>
                </a:solidFill>
                <a:latin typeface="Verdana"/>
                <a:ea typeface="Arial"/>
              </a:rPr>
              <a:t>Grupo A </a:t>
            </a:r>
            <a:endParaRPr b="1" lang="en-US" sz="1100" spc="-1" strike="noStrike">
              <a:solidFill>
                <a:srgbClr val="ffd624"/>
              </a:solidFill>
              <a:latin typeface="Verdana"/>
            </a:endParaRPr>
          </a:p>
          <a:p>
            <a:pPr marL="343080" indent="-343080">
              <a:buClr>
                <a:srgbClr val="ffd62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ea typeface="Arial"/>
              </a:rPr>
              <a:t>361</a:t>
            </a:r>
            <a:r>
              <a:rPr b="0" lang="en-GB" sz="1400" spc="-1" strike="noStrike">
                <a:solidFill>
                  <a:srgbClr val="0f5494"/>
                </a:solidFill>
                <a:latin typeface="Verdana"/>
                <a:ea typeface="Arial"/>
              </a:rPr>
              <a:t> participaciones de  </a:t>
            </a:r>
            <a:r>
              <a:rPr b="1" lang="en-GB" sz="1400" spc="-1" strike="noStrike">
                <a:solidFill>
                  <a:srgbClr val="0f5494"/>
                </a:solidFill>
                <a:latin typeface="Verdana"/>
                <a:ea typeface="Arial"/>
              </a:rPr>
              <a:t>137</a:t>
            </a:r>
            <a:r>
              <a:rPr b="0" lang="en-GB" sz="1400" spc="-1" strike="noStrike">
                <a:solidFill>
                  <a:srgbClr val="0f5494"/>
                </a:solidFill>
                <a:latin typeface="Verdana"/>
                <a:ea typeface="Arial"/>
              </a:rPr>
              <a:t> </a:t>
            </a:r>
            <a:r>
              <a:rPr b="0" lang="en-GB" sz="1400" spc="-1" strike="noStrike" u="sng">
                <a:solidFill>
                  <a:srgbClr val="0f5494"/>
                </a:solidFill>
                <a:uFillTx/>
                <a:latin typeface="Verdana"/>
                <a:ea typeface="Arial"/>
              </a:rPr>
              <a:t>universidades Europeas</a:t>
            </a:r>
            <a:endParaRPr b="1" lang="en-US" sz="1400" spc="-1" strike="noStrike">
              <a:solidFill>
                <a:srgbClr val="ffd624"/>
              </a:solidFill>
              <a:latin typeface="Verdana"/>
            </a:endParaRPr>
          </a:p>
          <a:p>
            <a:pPr marL="343080" indent="-343080">
              <a:buClr>
                <a:srgbClr val="ffd62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Impacto</a:t>
            </a:r>
            <a:endParaRPr b="1" lang="en-US" sz="3200" spc="-1" strike="noStrike">
              <a:solidFill>
                <a:srgbClr val="0f5494"/>
              </a:solidFill>
              <a:latin typeface="Verdana"/>
            </a:endParaRPr>
          </a:p>
        </p:txBody>
      </p:sp>
      <p:sp>
        <p:nvSpPr>
          <p:cNvPr id="1151" name=""/>
          <p:cNvSpPr txBox="1"/>
          <p:nvPr/>
        </p:nvSpPr>
        <p:spPr>
          <a:xfrm>
            <a:off x="457200" y="2060640"/>
            <a:ext cx="8229600" cy="4138560"/>
          </a:xfrm>
          <a:prstGeom prst="rect">
            <a:avLst/>
          </a:prstGeom>
          <a:noFill/>
          <a:ln w="0">
            <a:noFill/>
          </a:ln>
        </p:spPr>
        <p:txBody>
          <a:bodyPr anchor="t">
            <a:normAutofit/>
          </a:bodyPr>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Regional: estrechando las relaciones en dos dimensiones: AL/UE y AL/AL</a:t>
            </a:r>
            <a:r>
              <a:rPr b="1" lang="fr-BE" sz="1800" spc="-1" strike="noStrike">
                <a:solidFill>
                  <a:srgbClr val="0f5494"/>
                </a:solidFill>
                <a:latin typeface="Verdana"/>
              </a:rPr>
              <a:t>	</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País: contribuyendo en la cohesión social: participaión de estudiantes en desventaja ecónomica y social; participación del grupo objetivo 3</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nstitucional: establecimiento de acuerdos bilaterales, áreas de investigación conjuntas; programas conjuntos; visibilidad internacional</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ndividual: personal y profesional</a:t>
            </a:r>
            <a:endParaRPr b="1" lang="en-US" sz="1800" spc="-1" strike="noStrike">
              <a:solidFill>
                <a:srgbClr val="0f5494"/>
              </a:solidFill>
              <a:latin typeface="Verdana"/>
            </a:endParaRPr>
          </a:p>
          <a:p>
            <a:pPr marL="34308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Resultados apreciados </a:t>
            </a:r>
            <a:endParaRPr b="1" lang="en-US" sz="3200" spc="-1" strike="noStrike">
              <a:solidFill>
                <a:srgbClr val="0f5494"/>
              </a:solidFill>
              <a:latin typeface="Verdana"/>
            </a:endParaRPr>
          </a:p>
        </p:txBody>
      </p:sp>
      <p:sp>
        <p:nvSpPr>
          <p:cNvPr id="1153"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Proyectos en concordancia  con la estrategia de cooperación UE/AL</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Número de movilidades previsto alcanzado </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Alto participación de universidade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Colaboraciones consolidadas entre universidades de ambos lado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La internacionalización de las universidades de las regiones menos favorecidas</a:t>
            </a:r>
            <a:endParaRPr b="0" i="1" lang="en-US" sz="1600" spc="-1" strike="noStrike">
              <a:solidFill>
                <a:srgbClr val="0f5494"/>
              </a:solidFill>
              <a:latin typeface="Verdana"/>
            </a:endParaRPr>
          </a:p>
          <a:p>
            <a:pPr marL="3430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Entusiasmo y enriquecimiento cultural para los becario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4" name="Picture 2" descr=""/>
          <p:cNvPicPr/>
          <p:nvPr/>
        </p:nvPicPr>
        <p:blipFill>
          <a:blip r:embed="rId1"/>
          <a:stretch/>
        </p:blipFill>
        <p:spPr>
          <a:xfrm>
            <a:off x="7164360" y="5805360"/>
            <a:ext cx="1725480" cy="470160"/>
          </a:xfrm>
          <a:prstGeom prst="rect">
            <a:avLst/>
          </a:prstGeom>
          <a:ln w="0">
            <a:noFill/>
          </a:ln>
        </p:spPr>
      </p:pic>
      <p:graphicFrame>
        <p:nvGraphicFramePr>
          <p:cNvPr id="1155" name="Chart 3"/>
          <p:cNvGraphicFramePr/>
          <p:nvPr/>
        </p:nvGraphicFramePr>
        <p:xfrm>
          <a:off x="1619280" y="1228680"/>
          <a:ext cx="7458120" cy="5419800"/>
        </p:xfrm>
        <a:graphic>
          <a:graphicData uri="http://schemas.openxmlformats.org/presentationml/2006/ole">
            <p:oleObj progId="Excel.Sheet.12" r:id="rId2" spid="">
              <p:embed/>
              <p:pic>
                <p:nvPicPr>
                  <p:cNvPr id="1156" name="Chart 3" descr=""/>
                  <p:cNvPicPr/>
                  <p:nvPr/>
                </p:nvPicPr>
                <p:blipFill>
                  <a:blip r:embed="rId3"/>
                  <a:stretch/>
                </p:blipFill>
                <p:spPr>
                  <a:xfrm>
                    <a:off x="1619280" y="1228680"/>
                    <a:ext cx="7458120" cy="5419800"/>
                  </a:xfrm>
                  <a:prstGeom prst="rect">
                    <a:avLst/>
                  </a:prstGeom>
                  <a:ln w="0">
                    <a:noFill/>
                  </a:ln>
                </p:spPr>
              </p:pic>
            </p:oleObj>
          </a:graphicData>
        </a:graphic>
      </p:graphicFrame>
      <p:sp>
        <p:nvSpPr>
          <p:cNvPr id="1157" name="TextBox 1"/>
          <p:cNvSpPr/>
          <p:nvPr/>
        </p:nvSpPr>
        <p:spPr>
          <a:xfrm>
            <a:off x="1440" y="2205000"/>
            <a:ext cx="1690920" cy="2271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Total EU movilidad hacia AL: </a:t>
            </a:r>
            <a:r>
              <a:rPr b="1" lang="en-GB" sz="1300" spc="-1" strike="noStrike">
                <a:solidFill>
                  <a:srgbClr val="0f5494"/>
                </a:solidFill>
                <a:latin typeface="Verdana"/>
              </a:rPr>
              <a:t>1036</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Total AL movilidad hacia UE: </a:t>
            </a:r>
            <a:r>
              <a:rPr b="1" lang="en-GB" sz="1300" spc="-1" strike="noStrike">
                <a:solidFill>
                  <a:srgbClr val="0f5494"/>
                </a:solidFill>
                <a:latin typeface="Verdana"/>
              </a:rPr>
              <a:t>5687</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Movilidades en curso: </a:t>
            </a:r>
            <a:r>
              <a:rPr b="1" lang="en-GB" sz="1300" spc="-1" strike="noStrike">
                <a:solidFill>
                  <a:srgbClr val="0f5494"/>
                </a:solidFill>
                <a:latin typeface="Verdana"/>
              </a:rPr>
              <a:t>333</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158" name="Chart 4"/>
          <p:cNvGraphicFramePr/>
          <p:nvPr/>
        </p:nvGraphicFramePr>
        <p:xfrm>
          <a:off x="920880" y="1290600"/>
          <a:ext cx="7518240" cy="5213520"/>
        </p:xfrm>
        <a:graphic>
          <a:graphicData uri="http://schemas.openxmlformats.org/presentationml/2006/ole">
            <p:oleObj progId="Excel.Sheet.12" r:id="rId1" spid="">
              <p:embed/>
              <p:pic>
                <p:nvPicPr>
                  <p:cNvPr id="1159" name="Chart 4" descr=""/>
                  <p:cNvPicPr/>
                  <p:nvPr/>
                </p:nvPicPr>
                <p:blipFill>
                  <a:blip r:embed="rId2"/>
                  <a:stretch/>
                </p:blipFill>
                <p:spPr>
                  <a:xfrm>
                    <a:off x="920880" y="1290600"/>
                    <a:ext cx="7518240" cy="52135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60" name="Chart 6" descr=""/>
          <p:cNvPicPr/>
          <p:nvPr/>
        </p:nvPicPr>
        <p:blipFill>
          <a:blip r:embed="rId1"/>
          <a:stretch/>
        </p:blipFill>
        <p:spPr>
          <a:xfrm>
            <a:off x="324000" y="2346480"/>
            <a:ext cx="4827600" cy="3962160"/>
          </a:xfrm>
          <a:prstGeom prst="rect">
            <a:avLst/>
          </a:prstGeom>
          <a:ln w="0">
            <a:noFill/>
          </a:ln>
        </p:spPr>
      </p:pic>
      <p:pic>
        <p:nvPicPr>
          <p:cNvPr id="1161" name="Chart 7" descr=""/>
          <p:cNvPicPr/>
          <p:nvPr/>
        </p:nvPicPr>
        <p:blipFill>
          <a:blip r:embed="rId2"/>
          <a:stretch/>
        </p:blipFill>
        <p:spPr>
          <a:xfrm>
            <a:off x="4548240" y="2200320"/>
            <a:ext cx="4443480" cy="3822480"/>
          </a:xfrm>
          <a:prstGeom prst="rect">
            <a:avLst/>
          </a:prstGeom>
          <a:ln w="0">
            <a:noFill/>
          </a:ln>
        </p:spPr>
      </p:pic>
      <p:sp>
        <p:nvSpPr>
          <p:cNvPr id="1162" name="Rectangle 2"/>
          <p:cNvSpPr/>
          <p:nvPr/>
        </p:nvSpPr>
        <p:spPr>
          <a:xfrm>
            <a:off x="2286000" y="119700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ea typeface="Verdana"/>
              </a:rPr>
              <a:t> </a:t>
            </a:r>
            <a:r>
              <a:rPr b="1" lang="en-US" sz="1600" spc="-1" strike="noStrike">
                <a:solidFill>
                  <a:srgbClr val="0f5494"/>
                </a:solidFill>
                <a:latin typeface="Verdana"/>
                <a:ea typeface="Verdana"/>
              </a:rPr>
              <a:t>Duración de las movilidades</a:t>
            </a:r>
            <a:br>
              <a:rPr sz="1600"/>
            </a:br>
            <a:r>
              <a:rPr b="1" lang="en-US" sz="1600" spc="-1" strike="noStrike">
                <a:solidFill>
                  <a:srgbClr val="0f5494"/>
                </a:solidFill>
                <a:latin typeface="Verdana"/>
                <a:ea typeface="Verdana"/>
              </a:rPr>
              <a:t>(América Latina regional y lotes por país, Erasmus Mundus Acción 2)</a:t>
            </a:r>
            <a:endParaRPr b="1" lang="en-US" sz="1600" spc="-1" strike="noStrike">
              <a:solidFill>
                <a:srgbClr val="ffd624"/>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3" name="Picture 3" descr=""/>
          <p:cNvPicPr/>
          <p:nvPr/>
        </p:nvPicPr>
        <p:blipFill>
          <a:blip r:embed="rId1"/>
          <a:srcRect l="0" t="0" r="25032" b="0"/>
          <a:stretch/>
        </p:blipFill>
        <p:spPr>
          <a:xfrm>
            <a:off x="4859280" y="1598760"/>
            <a:ext cx="3686400" cy="4390920"/>
          </a:xfrm>
          <a:prstGeom prst="rect">
            <a:avLst/>
          </a:prstGeom>
          <a:ln w="0">
            <a:noFill/>
          </a:ln>
        </p:spPr>
      </p:pic>
      <p:pic>
        <p:nvPicPr>
          <p:cNvPr id="1164" name="Picture 4" descr=""/>
          <p:cNvPicPr/>
          <p:nvPr/>
        </p:nvPicPr>
        <p:blipFill>
          <a:blip r:embed="rId2"/>
          <a:stretch/>
        </p:blipFill>
        <p:spPr>
          <a:xfrm>
            <a:off x="108000" y="2060640"/>
            <a:ext cx="3333600" cy="4000320"/>
          </a:xfrm>
          <a:prstGeom prst="rect">
            <a:avLst/>
          </a:prstGeom>
          <a:ln w="0">
            <a:noFill/>
          </a:ln>
        </p:spPr>
      </p:pic>
      <p:sp>
        <p:nvSpPr>
          <p:cNvPr id="1165" name="TextBox 5"/>
          <p:cNvSpPr/>
          <p:nvPr/>
        </p:nvSpPr>
        <p:spPr>
          <a:xfrm>
            <a:off x="468360" y="134136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EU mobility to LA</a:t>
            </a:r>
            <a:endParaRPr b="1" lang="en-US" sz="1800" spc="-1" strike="noStrike">
              <a:solidFill>
                <a:srgbClr val="ffd624"/>
              </a:solidFill>
              <a:latin typeface="Verdana"/>
            </a:endParaRPr>
          </a:p>
        </p:txBody>
      </p:sp>
      <p:sp>
        <p:nvSpPr>
          <p:cNvPr id="1166" name="TextBox 6"/>
          <p:cNvSpPr/>
          <p:nvPr/>
        </p:nvSpPr>
        <p:spPr>
          <a:xfrm>
            <a:off x="5867280" y="141300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LA mobility to EU</a:t>
            </a:r>
            <a:endParaRPr b="1" lang="en-US" sz="1800" spc="-1" strike="noStrike">
              <a:solidFill>
                <a:srgbClr val="ffd624"/>
              </a:solidFill>
              <a:latin typeface="Verdana"/>
            </a:endParaRPr>
          </a:p>
        </p:txBody>
      </p:sp>
      <p:sp>
        <p:nvSpPr>
          <p:cNvPr id="1167" name="TextBox 13"/>
          <p:cNvSpPr/>
          <p:nvPr/>
        </p:nvSpPr>
        <p:spPr>
          <a:xfrm>
            <a:off x="5072040" y="421956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2%</a:t>
            </a:r>
            <a:endParaRPr b="1" lang="en-US" sz="1200" spc="-1" strike="noStrike">
              <a:solidFill>
                <a:srgbClr val="ffd624"/>
              </a:solidFill>
              <a:latin typeface="Verdana"/>
            </a:endParaRPr>
          </a:p>
        </p:txBody>
      </p:sp>
      <p:cxnSp>
        <p:nvCxnSpPr>
          <p:cNvPr id="1168" name="Straight Arrow Connector 15"/>
          <p:cNvCxnSpPr/>
          <p:nvPr/>
        </p:nvCxnSpPr>
        <p:spPr>
          <a:xfrm>
            <a:off x="5354280" y="4495680"/>
            <a:ext cx="81360" cy="588240"/>
          </a:xfrm>
          <a:prstGeom prst="straightConnector1">
            <a:avLst/>
          </a:prstGeom>
          <a:ln w="38160">
            <a:solidFill>
              <a:srgbClr val="c00000"/>
            </a:solidFill>
            <a:miter/>
            <a:tailEnd len="med" type="arrow" w="med"/>
          </a:ln>
        </p:spPr>
      </p:cxnSp>
      <p:sp>
        <p:nvSpPr>
          <p:cNvPr id="1169" name="TextBox 19"/>
          <p:cNvSpPr/>
          <p:nvPr/>
        </p:nvSpPr>
        <p:spPr>
          <a:xfrm>
            <a:off x="4140360" y="422280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14%</a:t>
            </a:r>
            <a:endParaRPr b="1" lang="en-US" sz="1200" spc="-1" strike="noStrike">
              <a:solidFill>
                <a:srgbClr val="ffd624"/>
              </a:solidFill>
              <a:latin typeface="Verdana"/>
            </a:endParaRPr>
          </a:p>
        </p:txBody>
      </p:sp>
      <p:cxnSp>
        <p:nvCxnSpPr>
          <p:cNvPr id="1170" name="Straight Arrow Connector 20"/>
          <p:cNvCxnSpPr/>
          <p:nvPr/>
        </p:nvCxnSpPr>
        <p:spPr>
          <a:xfrm>
            <a:off x="4660560" y="4431960"/>
            <a:ext cx="399240" cy="437400"/>
          </a:xfrm>
          <a:prstGeom prst="straightConnector1">
            <a:avLst/>
          </a:prstGeom>
          <a:ln w="38160">
            <a:solidFill>
              <a:srgbClr val="c00000"/>
            </a:solidFill>
            <a:miter/>
            <a:tailEnd len="med" type="arrow" w="med"/>
          </a:ln>
        </p:spPr>
      </p:cxnSp>
      <p:cxnSp>
        <p:nvCxnSpPr>
          <p:cNvPr id="1171" name="Straight Arrow Connector 28"/>
          <p:cNvCxnSpPr/>
          <p:nvPr/>
        </p:nvCxnSpPr>
        <p:spPr>
          <a:xfrm flipH="1" flipV="1">
            <a:off x="6947640" y="5157000"/>
            <a:ext cx="288360" cy="646920"/>
          </a:xfrm>
          <a:prstGeom prst="straightConnector1">
            <a:avLst/>
          </a:prstGeom>
          <a:ln w="38160">
            <a:solidFill>
              <a:srgbClr val="c00000"/>
            </a:solidFill>
            <a:miter/>
            <a:tailEnd len="med" type="arrow" w="med"/>
          </a:ln>
        </p:spPr>
      </p:cxnSp>
      <p:sp>
        <p:nvSpPr>
          <p:cNvPr id="1172" name="TextBox 30"/>
          <p:cNvSpPr/>
          <p:nvPr/>
        </p:nvSpPr>
        <p:spPr>
          <a:xfrm>
            <a:off x="7018200" y="580392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11%</a:t>
            </a:r>
            <a:endParaRPr b="1" lang="en-US" sz="1200" spc="-1" strike="noStrike">
              <a:solidFill>
                <a:srgbClr val="ffd624"/>
              </a:solidFill>
              <a:latin typeface="Verdana"/>
            </a:endParaRPr>
          </a:p>
        </p:txBody>
      </p:sp>
      <p:cxnSp>
        <p:nvCxnSpPr>
          <p:cNvPr id="1173" name="Straight Arrow Connector 11"/>
          <p:cNvCxnSpPr/>
          <p:nvPr/>
        </p:nvCxnSpPr>
        <p:spPr>
          <a:xfrm flipH="1">
            <a:off x="2770920" y="2960280"/>
            <a:ext cx="577080" cy="685080"/>
          </a:xfrm>
          <a:prstGeom prst="straightConnector1">
            <a:avLst/>
          </a:prstGeom>
          <a:ln w="38160">
            <a:solidFill>
              <a:srgbClr val="c00000"/>
            </a:solidFill>
            <a:miter/>
            <a:tailEnd len="med" type="arrow" w="med"/>
          </a:ln>
        </p:spPr>
      </p:cxnSp>
      <p:sp>
        <p:nvSpPr>
          <p:cNvPr id="1174" name="TextBox 19"/>
          <p:cNvSpPr/>
          <p:nvPr/>
        </p:nvSpPr>
        <p:spPr>
          <a:xfrm>
            <a:off x="3130560" y="268272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3%</a:t>
            </a:r>
            <a:endParaRPr b="1" lang="en-US" sz="1200" spc="-1" strike="noStrike">
              <a:solidFill>
                <a:srgbClr val="ffd624"/>
              </a:solidFill>
              <a:latin typeface="Verdana"/>
            </a:endParaRPr>
          </a:p>
        </p:txBody>
      </p:sp>
      <p:sp>
        <p:nvSpPr>
          <p:cNvPr id="1175" name="Straight Connector 5"/>
          <p:cNvSpPr/>
          <p:nvPr/>
        </p:nvSpPr>
        <p:spPr>
          <a:xfrm>
            <a:off x="3924360" y="1525680"/>
            <a:ext cx="0" cy="4464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cxnSp>
        <p:nvCxnSpPr>
          <p:cNvPr id="1176" name="Straight Arrow Connector 18"/>
          <p:cNvCxnSpPr/>
          <p:nvPr/>
        </p:nvCxnSpPr>
        <p:spPr>
          <a:xfrm flipV="1">
            <a:off x="286920" y="2564640"/>
            <a:ext cx="397800" cy="864360"/>
          </a:xfrm>
          <a:prstGeom prst="straightConnector1">
            <a:avLst/>
          </a:prstGeom>
          <a:ln w="38160">
            <a:solidFill>
              <a:srgbClr val="c00000"/>
            </a:solidFill>
            <a:miter/>
            <a:tailEnd len="med" type="arrow" w="med"/>
          </a:ln>
        </p:spPr>
      </p:cxnSp>
      <p:sp>
        <p:nvSpPr>
          <p:cNvPr id="1177" name="TextBox 30"/>
          <p:cNvSpPr/>
          <p:nvPr/>
        </p:nvSpPr>
        <p:spPr>
          <a:xfrm>
            <a:off x="34920" y="345276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78" name="Straight Arrow Connector 24"/>
          <p:cNvCxnSpPr/>
          <p:nvPr/>
        </p:nvCxnSpPr>
        <p:spPr>
          <a:xfrm flipV="1">
            <a:off x="1512720" y="5085720"/>
            <a:ext cx="396000" cy="864360"/>
          </a:xfrm>
          <a:prstGeom prst="straightConnector1">
            <a:avLst/>
          </a:prstGeom>
          <a:ln w="38160">
            <a:solidFill>
              <a:srgbClr val="c00000"/>
            </a:solidFill>
            <a:miter/>
            <a:tailEnd len="med" type="arrow" w="med"/>
          </a:ln>
        </p:spPr>
      </p:cxnSp>
      <p:sp>
        <p:nvSpPr>
          <p:cNvPr id="1179" name="TextBox 30"/>
          <p:cNvSpPr/>
          <p:nvPr/>
        </p:nvSpPr>
        <p:spPr>
          <a:xfrm>
            <a:off x="1187280" y="598968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80" name="Straight Arrow Connector 26"/>
          <p:cNvCxnSpPr/>
          <p:nvPr/>
        </p:nvCxnSpPr>
        <p:spPr>
          <a:xfrm flipH="1" flipV="1">
            <a:off x="2268000" y="5013000"/>
            <a:ext cx="504000" cy="977040"/>
          </a:xfrm>
          <a:prstGeom prst="straightConnector1">
            <a:avLst/>
          </a:prstGeom>
          <a:ln w="38160">
            <a:solidFill>
              <a:srgbClr val="c00000"/>
            </a:solidFill>
            <a:miter/>
            <a:tailEnd len="med" type="arrow" w="med"/>
          </a:ln>
        </p:spPr>
      </p:cxnSp>
      <p:sp>
        <p:nvSpPr>
          <p:cNvPr id="1181" name="TextBox 30"/>
          <p:cNvSpPr/>
          <p:nvPr/>
        </p:nvSpPr>
        <p:spPr>
          <a:xfrm>
            <a:off x="2647800" y="602784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82" name="Straight Arrow Connector 29"/>
          <p:cNvCxnSpPr>
            <a:stCxn id="1183" idx="0"/>
          </p:cNvCxnSpPr>
          <p:nvPr/>
        </p:nvCxnSpPr>
        <p:spPr>
          <a:xfrm flipV="1">
            <a:off x="1427040" y="3933360"/>
            <a:ext cx="199440" cy="804240"/>
          </a:xfrm>
          <a:prstGeom prst="straightConnector1">
            <a:avLst/>
          </a:prstGeom>
          <a:ln w="38160">
            <a:solidFill>
              <a:srgbClr val="c00000"/>
            </a:solidFill>
            <a:miter/>
            <a:tailEnd len="med" type="arrow" w="med"/>
          </a:ln>
        </p:spPr>
      </p:cxnSp>
      <p:sp>
        <p:nvSpPr>
          <p:cNvPr id="1183" name="TextBox 30"/>
          <p:cNvSpPr/>
          <p:nvPr/>
        </p:nvSpPr>
        <p:spPr>
          <a:xfrm>
            <a:off x="1103400" y="4737240"/>
            <a:ext cx="649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a:t>
            </a:r>
            <a:endParaRPr b="1" lang="en-US" sz="1200" spc="-1" strike="noStrike">
              <a:solidFill>
                <a:srgbClr val="ffd624"/>
              </a:solidFill>
              <a:latin typeface="Verdana"/>
            </a:endParaRPr>
          </a:p>
        </p:txBody>
      </p:sp>
      <p:sp>
        <p:nvSpPr>
          <p:cNvPr id="1184" name="TextBox 19"/>
          <p:cNvSpPr/>
          <p:nvPr/>
        </p:nvSpPr>
        <p:spPr>
          <a:xfrm>
            <a:off x="5219640" y="383688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7%</a:t>
            </a:r>
            <a:endParaRPr b="1" lang="en-US" sz="1200" spc="-1" strike="noStrike">
              <a:solidFill>
                <a:srgbClr val="ffd624"/>
              </a:solidFill>
              <a:latin typeface="Verdana"/>
            </a:endParaRPr>
          </a:p>
        </p:txBody>
      </p:sp>
      <p:cxnSp>
        <p:nvCxnSpPr>
          <p:cNvPr id="1185" name="Straight Arrow Connector 35"/>
          <p:cNvCxnSpPr/>
          <p:nvPr/>
        </p:nvCxnSpPr>
        <p:spPr>
          <a:xfrm>
            <a:off x="5556240" y="4057200"/>
            <a:ext cx="529200" cy="375480"/>
          </a:xfrm>
          <a:prstGeom prst="straightConnector1">
            <a:avLst/>
          </a:prstGeom>
          <a:ln w="381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68360" y="907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ROM América Latina: observaciones</a:t>
            </a:r>
            <a:endParaRPr b="0" lang="en-US" sz="2000" spc="-1" strike="noStrike">
              <a:solidFill>
                <a:srgbClr val="000000"/>
              </a:solidFill>
              <a:latin typeface="Arial"/>
            </a:endParaRPr>
          </a:p>
        </p:txBody>
      </p:sp>
      <p:sp>
        <p:nvSpPr>
          <p:cNvPr id="1187" name=""/>
          <p:cNvSpPr txBox="1"/>
          <p:nvPr/>
        </p:nvSpPr>
        <p:spPr>
          <a:xfrm>
            <a:off x="395280" y="2492280"/>
            <a:ext cx="8229600" cy="41385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Preguntas abierta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Cómo podemos invertir en los resultados obtenidos y garantizar una cooperación futura?</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En qué medida han cambiado las universidades participantes en EM? Y cuáles son sus objetivos inmediatos?</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En qué medida han contribuido los proyectos de EM a la transferencia de conocimientos/tecnologías/innovación; cohesión social ; prospectiva profesional de los becarios/as?</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Calibri"/>
              </a:rPr>
              <a:t>Cuáles son las sinergias con otros programas/proyectos y perspectiva futura?</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Calibri"/>
              </a:rPr>
              <a:t>Cómo mantener los niveles de cooperación alcanzados con EM y ALFA ? </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88" name=""/>
          <p:cNvGraphicFramePr/>
          <p:nvPr/>
        </p:nvGraphicFramePr>
        <p:xfrm>
          <a:off x="1403280" y="1700280"/>
          <a:ext cx="6096240" cy="579240"/>
        </p:xfrm>
        <a:graphic>
          <a:graphicData uri="http://schemas.openxmlformats.org/drawingml/2006/table">
            <a:tbl>
              <a:tblPr/>
              <a:tblGrid>
                <a:gridCol w="609624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790d8"/>
                          </a:solidFill>
                          <a:latin typeface="Calibri"/>
                        </a:rPr>
                        <a:t>Pertinencia, eficiencia, eficacia, impacto y sostenibilidad de la acción es positiva</a:t>
                      </a:r>
                      <a:endParaRPr b="1" lang="en-US" sz="1600" spc="-1" strike="noStrike">
                        <a:solidFill>
                          <a:srgbClr val="ffd62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57780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3a80"/>
                </a:solidFill>
                <a:latin typeface="Verdana"/>
              </a:rPr>
              <a:t>ERASMUS MUNDUS:  3 Acciones</a:t>
            </a:r>
            <a:endParaRPr b="1" lang="en-US" sz="3000" spc="-1" strike="noStrike">
              <a:solidFill>
                <a:srgbClr val="0f5494"/>
              </a:solidFill>
              <a:latin typeface="Verdana"/>
            </a:endParaRPr>
          </a:p>
        </p:txBody>
      </p:sp>
      <p:sp>
        <p:nvSpPr>
          <p:cNvPr id="1093" name="Rounded Rectangle 13"/>
          <p:cNvSpPr/>
          <p:nvPr/>
        </p:nvSpPr>
        <p:spPr>
          <a:xfrm>
            <a:off x="468360" y="2637000"/>
            <a:ext cx="5081400" cy="107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ea typeface="Arial"/>
              </a:rPr>
              <a:t>Acción 1: </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Joint Master Course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Joint Doctorates</a:t>
            </a:r>
            <a:endParaRPr b="1" lang="en-US" sz="1600" spc="-1" strike="noStrike">
              <a:solidFill>
                <a:srgbClr val="ffd624"/>
              </a:solidFill>
              <a:latin typeface="Verdana"/>
            </a:endParaRPr>
          </a:p>
        </p:txBody>
      </p:sp>
      <p:sp>
        <p:nvSpPr>
          <p:cNvPr id="1094" name="Rounded Rectangle 14"/>
          <p:cNvSpPr/>
          <p:nvPr/>
        </p:nvSpPr>
        <p:spPr>
          <a:xfrm>
            <a:off x="503280" y="4005360"/>
            <a:ext cx="5076720" cy="815760"/>
          </a:xfrm>
          <a:prstGeom prst="roundRect">
            <a:avLst>
              <a:gd name="adj" fmla="val 16667"/>
            </a:avLst>
          </a:prstGeom>
          <a:solidFill>
            <a:srgbClr val="69ae2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ea typeface="Arial"/>
              </a:rPr>
              <a:t>Acción 2: </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Partenariados</a:t>
            </a:r>
            <a:endParaRPr b="1" lang="en-US" sz="1600" spc="-1" strike="noStrike">
              <a:solidFill>
                <a:srgbClr val="ffd624"/>
              </a:solidFill>
              <a:latin typeface="Verdana"/>
            </a:endParaRPr>
          </a:p>
        </p:txBody>
      </p:sp>
      <p:sp>
        <p:nvSpPr>
          <p:cNvPr id="1095" name="Rounded Rectangle 15"/>
          <p:cNvSpPr/>
          <p:nvPr/>
        </p:nvSpPr>
        <p:spPr>
          <a:xfrm>
            <a:off x="468360" y="5089680"/>
            <a:ext cx="8137440" cy="1076040"/>
          </a:xfrm>
          <a:prstGeom prst="roundRect">
            <a:avLst>
              <a:gd name="adj" fmla="val 16667"/>
            </a:avLst>
          </a:prstGeom>
          <a:solidFill>
            <a:srgbClr val="9c9cd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rPr>
              <a:t>Acción 3:</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rPr>
              <a:t>Proyectos de promoción de la educación superior europea</a:t>
            </a:r>
            <a:endParaRPr b="1" lang="en-US" sz="1600" spc="-1" strike="noStrike">
              <a:solidFill>
                <a:srgbClr val="ffd624"/>
              </a:solidFill>
              <a:latin typeface="Verdana"/>
            </a:endParaRPr>
          </a:p>
        </p:txBody>
      </p:sp>
      <p:sp>
        <p:nvSpPr>
          <p:cNvPr id="1096" name="Right Brace 5"/>
          <p:cNvSpPr/>
          <p:nvPr/>
        </p:nvSpPr>
        <p:spPr>
          <a:xfrm>
            <a:off x="5580000" y="2557440"/>
            <a:ext cx="539640" cy="2263680"/>
          </a:xfrm>
          <a:custGeom>
            <a:avLst/>
            <a:gdLst>
              <a:gd name="textAreaLeft" fmla="*/ 0 w 539640"/>
              <a:gd name="textAreaRight" fmla="*/ 194760 w 539640"/>
              <a:gd name="textAreaTop" fmla="*/ 69120 h 2263680"/>
              <a:gd name="textAreaBottom" fmla="*/ 2194560 h 2263680"/>
            </a:gdLst>
            <a:ahLst/>
            <a:rect l="textAreaLeft" t="textAreaTop" r="textAreaRight" b="textAreaBottom"/>
            <a:pathLst>
              <a:path w="21600" h="21600">
                <a:moveTo>
                  <a:pt x="0" y="0"/>
                </a:moveTo>
                <a:cubicBezTo>
                  <a:pt x="5400" y="0"/>
                  <a:pt x="10800" y="1056"/>
                  <a:pt x="10800" y="2112"/>
                </a:cubicBezTo>
                <a:lnTo>
                  <a:pt x="10800" y="8688"/>
                </a:lnTo>
                <a:cubicBezTo>
                  <a:pt x="10800" y="9744"/>
                  <a:pt x="16200" y="10800"/>
                  <a:pt x="21600" y="10800"/>
                </a:cubicBezTo>
                <a:cubicBezTo>
                  <a:pt x="16200" y="10800"/>
                  <a:pt x="10800" y="11856"/>
                  <a:pt x="10800" y="12912"/>
                </a:cubicBezTo>
                <a:lnTo>
                  <a:pt x="10800" y="19488"/>
                </a:lnTo>
                <a:cubicBezTo>
                  <a:pt x="10800" y="20544"/>
                  <a:pt x="5400" y="21600"/>
                  <a:pt x="0" y="21600"/>
                </a:cubicBezTo>
              </a:path>
            </a:pathLst>
          </a:custGeom>
          <a:noFill/>
          <a:ln w="34920">
            <a:solidFill>
              <a:srgbClr val="00000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97" name="Rounded Rectangle 13"/>
          <p:cNvSpPr/>
          <p:nvPr/>
        </p:nvSpPr>
        <p:spPr>
          <a:xfrm>
            <a:off x="6191280" y="2527200"/>
            <a:ext cx="2628720" cy="2252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u="sng">
                <a:solidFill>
                  <a:srgbClr val="003a80"/>
                </a:solidFill>
                <a:uFillTx/>
                <a:latin typeface="Verdana"/>
                <a:ea typeface="Arial"/>
              </a:rPr>
              <a:t>BECA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u="sng">
                <a:solidFill>
                  <a:srgbClr val="003a80"/>
                </a:solidFill>
                <a:uFillTx/>
                <a:latin typeface="Verdana"/>
                <a:ea typeface="Arial"/>
              </a:rPr>
              <a:t>Estudiante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pregrado, maestria, doctorado y post doctorado) y personal (acad/admin.)</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EM-Acción 2 </a:t>
            </a:r>
            <a:br>
              <a:rPr sz="3000"/>
            </a:br>
            <a:r>
              <a:rPr b="1" lang="fr-BE" sz="3000" spc="-1" strike="noStrike">
                <a:solidFill>
                  <a:srgbClr val="0f5494"/>
                </a:solidFill>
                <a:latin typeface="Verdana"/>
              </a:rPr>
              <a:t>Partenariados 2007-2013</a:t>
            </a:r>
            <a:endParaRPr b="1" lang="en-US" sz="3000" spc="-1" strike="noStrike">
              <a:solidFill>
                <a:srgbClr val="0f5494"/>
              </a:solidFill>
              <a:latin typeface="Verdana"/>
            </a:endParaRPr>
          </a:p>
        </p:txBody>
      </p:sp>
      <p:sp>
        <p:nvSpPr>
          <p:cNvPr id="1099" name=""/>
          <p:cNvSpPr txBox="1"/>
          <p:nvPr/>
        </p:nvSpPr>
        <p:spPr>
          <a:xfrm>
            <a:off x="457200" y="2565360"/>
            <a:ext cx="8578800" cy="3167280"/>
          </a:xfrm>
          <a:prstGeom prst="rect">
            <a:avLst/>
          </a:prstGeom>
          <a:noFill/>
          <a:ln w="0">
            <a:noFill/>
          </a:ln>
        </p:spPr>
        <p:txBody>
          <a:bodyPr anchor="t">
            <a:norm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77 partenariados </a:t>
            </a:r>
            <a:endParaRPr b="0" i="1" lang="en-US" sz="28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421 universidades</a:t>
            </a:r>
            <a:endParaRPr b="0" i="1" lang="en-US" sz="2800" spc="-1" strike="noStrike">
              <a:solidFill>
                <a:srgbClr val="0f5494"/>
              </a:solidFill>
              <a:latin typeface="Verdana"/>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0f5494"/>
                </a:solidFill>
                <a:latin typeface="Verdana"/>
              </a:rPr>
              <a:t>409 UE y 1.012 no-UE</a:t>
            </a:r>
            <a:endParaRPr b="0" i="1" lang="en-US" sz="2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f5494"/>
                </a:solidFill>
                <a:latin typeface="Verdana"/>
              </a:rPr>
              <a:t>44.490 movilidades hasta la fecha </a:t>
            </a:r>
            <a:endParaRPr b="0" i="1" lang="en-US" sz="2800" spc="-1" strike="noStrike">
              <a:solidFill>
                <a:srgbClr val="0f5494"/>
              </a:solidFill>
              <a:latin typeface="Verdana"/>
            </a:endParaRPr>
          </a:p>
          <a:p>
            <a:pPr marL="343080" indent="-343080">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457200" y="2276640"/>
            <a:ext cx="8229600" cy="392256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Un total de </a:t>
            </a:r>
            <a:r>
              <a:rPr b="1" lang="fr-BE" sz="2400" spc="-1" strike="noStrike">
                <a:solidFill>
                  <a:srgbClr val="0f5494"/>
                </a:solidFill>
                <a:latin typeface="Verdana"/>
              </a:rPr>
              <a:t>196 universidades de América Latina </a:t>
            </a:r>
            <a:r>
              <a:rPr b="0" lang="fr-BE" sz="2400" spc="-1" strike="noStrike">
                <a:solidFill>
                  <a:srgbClr val="0f5494"/>
                </a:solidFill>
                <a:latin typeface="Verdana"/>
              </a:rPr>
              <a:t>participaron en:</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27 proyectos en el lote Regional  </a:t>
            </a:r>
            <a:r>
              <a:rPr b="0" lang="fr-BE" sz="2400" spc="-1" strike="noStrike">
                <a:solidFill>
                  <a:srgbClr val="0f5494"/>
                </a:solidFill>
                <a:latin typeface="Verdana"/>
              </a:rPr>
              <a:t>(2009-12-13)</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18 proyectos en lotes  bilaterales </a:t>
            </a:r>
            <a:r>
              <a:rPr b="0" lang="fr-BE" sz="2400" spc="-1" strike="noStrike">
                <a:solidFill>
                  <a:srgbClr val="0f5494"/>
                </a:solidFill>
                <a:latin typeface="Verdana"/>
              </a:rPr>
              <a:t>(2008-09-10-11-13)</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Total 2009-2014 = </a:t>
            </a:r>
            <a:r>
              <a:rPr b="1" lang="fr-BE" sz="2400" spc="-1" strike="noStrike">
                <a:solidFill>
                  <a:srgbClr val="0f5494"/>
                </a:solidFill>
                <a:latin typeface="Verdana"/>
              </a:rPr>
              <a:t>53 partenariado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Presupuesto total América Latina 161 M€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1" name="Title 1"/>
          <p:cNvSpPr/>
          <p:nvPr/>
        </p:nvSpPr>
        <p:spPr>
          <a:xfrm>
            <a:off x="468360" y="1197000"/>
            <a:ext cx="8229600" cy="863640"/>
          </a:xfrm>
          <a:prstGeom prst="rect">
            <a:avLst/>
          </a:prstGeom>
          <a:noFill/>
          <a:ln w="0">
            <a:noFill/>
          </a:ln>
        </p:spPr>
        <p:style>
          <a:lnRef idx="0"/>
          <a:fillRef idx="0"/>
          <a:effectRef idx="0"/>
          <a:fontRef idx="minor"/>
        </p:style>
        <p:txBody>
          <a:bodyPr lIns="90000" rIns="90000" tIns="46800" bIns="46800" anchor="ctr">
            <a:normAutofit fontScale="84000"/>
          </a:bodyPr>
          <a:p>
            <a:pPr marL="301320" indent="-301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ea typeface="Arial"/>
              </a:rPr>
              <a:t>EM Acción 2 </a:t>
            </a:r>
            <a:r>
              <a:rPr b="1" lang="en-GB" sz="3000" spc="-1" strike="noStrike">
                <a:solidFill>
                  <a:srgbClr val="0f5494"/>
                </a:solidFill>
                <a:latin typeface="Verdana"/>
                <a:ea typeface="Arial"/>
              </a:rPr>
              <a:t>: </a:t>
            </a:r>
            <a:endParaRPr b="1" lang="en-US" sz="3000" spc="-1" strike="noStrike">
              <a:solidFill>
                <a:srgbClr val="ffd624"/>
              </a:solidFill>
              <a:latin typeface="Verdana"/>
            </a:endParaRPr>
          </a:p>
          <a:p>
            <a:pPr marL="301320" indent="-301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ea typeface="Arial"/>
              </a:rPr>
              <a:t>Partenariados América Latina</a:t>
            </a:r>
            <a:endParaRPr b="1" lang="en-US" sz="3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Picture 11" descr="C:\Users\saenzaa\Desktop\Logos partenariados EM\logo-em-2.png"/>
          <p:cNvPicPr/>
          <p:nvPr/>
        </p:nvPicPr>
        <p:blipFill>
          <a:blip r:embed="rId1"/>
          <a:stretch/>
        </p:blipFill>
        <p:spPr>
          <a:xfrm>
            <a:off x="5435640" y="1268280"/>
            <a:ext cx="3048120" cy="1047960"/>
          </a:xfrm>
          <a:prstGeom prst="rect">
            <a:avLst/>
          </a:prstGeom>
          <a:ln w="0">
            <a:noFill/>
          </a:ln>
        </p:spPr>
      </p:pic>
      <p:pic>
        <p:nvPicPr>
          <p:cNvPr id="1103" name="Picture 12" descr="C:\Users\saenzaa\Desktop\Logos partenariados EM\Mundus Lindo.gif"/>
          <p:cNvPicPr/>
          <p:nvPr/>
        </p:nvPicPr>
        <p:blipFill>
          <a:blip r:embed="rId2"/>
          <a:stretch/>
        </p:blipFill>
        <p:spPr>
          <a:xfrm>
            <a:off x="3179880" y="5157720"/>
            <a:ext cx="1057320" cy="952560"/>
          </a:xfrm>
          <a:prstGeom prst="rect">
            <a:avLst/>
          </a:prstGeom>
          <a:ln w="0">
            <a:noFill/>
          </a:ln>
        </p:spPr>
      </p:pic>
      <p:pic>
        <p:nvPicPr>
          <p:cNvPr id="1104" name="Picture 13" descr="C:\Users\saenzaa\Desktop\Logos partenariados EM\202925_1peace-logotype.jpg"/>
          <p:cNvPicPr/>
          <p:nvPr/>
        </p:nvPicPr>
        <p:blipFill>
          <a:blip r:embed="rId3"/>
          <a:stretch/>
        </p:blipFill>
        <p:spPr>
          <a:xfrm>
            <a:off x="150840" y="1247760"/>
            <a:ext cx="3916440" cy="1682640"/>
          </a:xfrm>
          <a:prstGeom prst="rect">
            <a:avLst/>
          </a:prstGeom>
          <a:ln w="0">
            <a:noFill/>
          </a:ln>
        </p:spPr>
      </p:pic>
      <p:pic>
        <p:nvPicPr>
          <p:cNvPr id="1105" name="Picture 15" descr="C:\Users\saenzaa\Desktop\Logos partenariados EM\BABEL.gif"/>
          <p:cNvPicPr/>
          <p:nvPr/>
        </p:nvPicPr>
        <p:blipFill>
          <a:blip r:embed="rId4"/>
          <a:stretch/>
        </p:blipFill>
        <p:spPr>
          <a:xfrm>
            <a:off x="6516720" y="5521320"/>
            <a:ext cx="1762200" cy="762120"/>
          </a:xfrm>
          <a:prstGeom prst="rect">
            <a:avLst/>
          </a:prstGeom>
          <a:ln w="0">
            <a:noFill/>
          </a:ln>
        </p:spPr>
      </p:pic>
      <p:pic>
        <p:nvPicPr>
          <p:cNvPr id="1106" name="Picture 16" descr="C:\Users\saenzaa\Desktop\Logos partenariados EM\Bemundus.gif"/>
          <p:cNvPicPr/>
          <p:nvPr/>
        </p:nvPicPr>
        <p:blipFill>
          <a:blip r:embed="rId5"/>
          <a:stretch/>
        </p:blipFill>
        <p:spPr>
          <a:xfrm>
            <a:off x="3708360" y="3716280"/>
            <a:ext cx="1847880" cy="952560"/>
          </a:xfrm>
          <a:prstGeom prst="rect">
            <a:avLst/>
          </a:prstGeom>
          <a:ln w="0">
            <a:noFill/>
          </a:ln>
        </p:spPr>
      </p:pic>
      <p:pic>
        <p:nvPicPr>
          <p:cNvPr id="1107" name="Picture 17" descr="C:\Users\saenzaa\Desktop\Logos partenariados EM\image_mini.jpg"/>
          <p:cNvPicPr/>
          <p:nvPr/>
        </p:nvPicPr>
        <p:blipFill>
          <a:blip r:embed="rId6"/>
          <a:stretch/>
        </p:blipFill>
        <p:spPr>
          <a:xfrm>
            <a:off x="179280" y="3645000"/>
            <a:ext cx="1905120" cy="933480"/>
          </a:xfrm>
          <a:prstGeom prst="rect">
            <a:avLst/>
          </a:prstGeom>
          <a:ln w="0">
            <a:noFill/>
          </a:ln>
        </p:spPr>
      </p:pic>
      <p:pic>
        <p:nvPicPr>
          <p:cNvPr id="1108" name="Picture 18" descr="C:\Users\saenzaa\Desktop\Logos partenariados EM\logo.gif"/>
          <p:cNvPicPr/>
          <p:nvPr/>
        </p:nvPicPr>
        <p:blipFill>
          <a:blip r:embed="rId7"/>
          <a:stretch/>
        </p:blipFill>
        <p:spPr>
          <a:xfrm>
            <a:off x="711360" y="5032440"/>
            <a:ext cx="1514160" cy="447480"/>
          </a:xfrm>
          <a:prstGeom prst="rect">
            <a:avLst/>
          </a:prstGeom>
          <a:ln w="0">
            <a:noFill/>
          </a:ln>
        </p:spPr>
      </p:pic>
      <p:pic>
        <p:nvPicPr>
          <p:cNvPr id="1109" name="Picture 19" descr="C:\Users\saenzaa\Desktop\Logos partenariados EM\logo_fellow.png"/>
          <p:cNvPicPr/>
          <p:nvPr/>
        </p:nvPicPr>
        <p:blipFill>
          <a:blip r:embed="rId8"/>
          <a:stretch/>
        </p:blipFill>
        <p:spPr>
          <a:xfrm>
            <a:off x="6372360" y="3068640"/>
            <a:ext cx="2705040" cy="170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0" name=""/>
          <p:cNvSpPr txBox="1"/>
          <p:nvPr/>
        </p:nvSpPr>
        <p:spPr>
          <a:xfrm>
            <a:off x="457200" y="2565360"/>
            <a:ext cx="8229600" cy="363384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11" name="Diagram 3" descr=""/>
          <p:cNvPicPr/>
          <p:nvPr/>
        </p:nvPicPr>
        <p:blipFill>
          <a:blip r:embed="rId1"/>
          <a:stretch/>
        </p:blipFill>
        <p:spPr>
          <a:xfrm>
            <a:off x="609480" y="1341360"/>
            <a:ext cx="7778880" cy="4791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Prioridades</a:t>
            </a:r>
            <a:endParaRPr b="1" lang="en-US" sz="3200" spc="-1" strike="noStrike">
              <a:solidFill>
                <a:srgbClr val="0f5494"/>
              </a:solidFill>
              <a:latin typeface="Verdana"/>
            </a:endParaRPr>
          </a:p>
        </p:txBody>
      </p:sp>
      <p:sp>
        <p:nvSpPr>
          <p:cNvPr id="1113"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mportancia por el desarrollo económico y social de la región de AL</a:t>
            </a:r>
            <a:endParaRPr b="0" i="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Cubertura geográfica (Países Grupo A) / Integración de instituciones y estudiantes en areas remotas</a:t>
            </a:r>
            <a:endParaRPr b="1" lang="en-US" sz="14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TG 3: grupos vulnerables</a:t>
            </a:r>
            <a:endParaRPr b="1" lang="en-US" sz="14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Igualdad de género, estudiantes  en desventaja socio-económica</a:t>
            </a:r>
            <a:r>
              <a:rPr b="1" lang="fr-BE" sz="1800" spc="-1" strike="noStrike">
                <a:solidFill>
                  <a:srgbClr val="0f5494"/>
                </a:solidFill>
                <a:latin typeface="Verdana"/>
              </a:rPr>
              <a:t>	</a:t>
            </a:r>
            <a:endParaRPr b="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Title 1"/>
          <p:cNvSpPr/>
          <p:nvPr/>
        </p:nvSpPr>
        <p:spPr>
          <a:xfrm>
            <a:off x="46080" y="150840"/>
            <a:ext cx="3457440" cy="92232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3200" spc="-1" strike="noStrike">
                <a:solidFill>
                  <a:srgbClr val="ffffff"/>
                </a:solidFill>
                <a:latin typeface="Verdana"/>
              </a:rPr>
              <a:t>ARGENTINA</a:t>
            </a:r>
            <a:endParaRPr b="1" lang="en-US" sz="32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Prioridad Geográfica</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ffd624"/>
              </a:solidFill>
              <a:latin typeface="Verdana"/>
            </a:endParaRPr>
          </a:p>
        </p:txBody>
      </p:sp>
      <p:sp>
        <p:nvSpPr>
          <p:cNvPr id="1115" name="Freeform 43"/>
          <p:cNvSpPr/>
          <p:nvPr/>
        </p:nvSpPr>
        <p:spPr>
          <a:xfrm>
            <a:off x="4508640" y="4014720"/>
            <a:ext cx="68040" cy="138240"/>
          </a:xfrm>
          <a:custGeom>
            <a:avLst/>
            <a:gdLst/>
            <a:ahLst/>
            <a:rect l="l" t="t" r="r" b="b"/>
            <a:pathLst>
              <a:path w="74140" h="148281">
                <a:moveTo>
                  <a:pt x="61783" y="0"/>
                </a:moveTo>
                <a:lnTo>
                  <a:pt x="0" y="30891"/>
                </a:lnTo>
                <a:lnTo>
                  <a:pt x="6178" y="142102"/>
                </a:lnTo>
                <a:lnTo>
                  <a:pt x="74140" y="148281"/>
                </a:lnTo>
                <a:lnTo>
                  <a:pt x="61783"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16" name="Freeform 44"/>
          <p:cNvSpPr/>
          <p:nvPr/>
        </p:nvSpPr>
        <p:spPr>
          <a:xfrm>
            <a:off x="4554360" y="6561000"/>
            <a:ext cx="103320" cy="46080"/>
          </a:xfrm>
          <a:custGeom>
            <a:avLst/>
            <a:gdLst/>
            <a:ahLst/>
            <a:rect l="l" t="t" r="r" b="b"/>
            <a:pathLst>
              <a:path w="111211" h="49427">
                <a:moveTo>
                  <a:pt x="18535" y="0"/>
                </a:moveTo>
                <a:lnTo>
                  <a:pt x="0" y="49427"/>
                </a:lnTo>
                <a:lnTo>
                  <a:pt x="61784" y="37070"/>
                </a:lnTo>
                <a:lnTo>
                  <a:pt x="111211" y="0"/>
                </a:lnTo>
                <a:lnTo>
                  <a:pt x="18535" y="0"/>
                </a:lnTo>
                <a:close/>
              </a:path>
            </a:pathLst>
          </a:custGeom>
          <a:solidFill>
            <a:srgbClr val="006c86"/>
          </a:solidFill>
          <a:ln w="12600">
            <a:solidFill>
              <a:srgbClr val="00b0f0"/>
            </a:solidFill>
            <a:round/>
          </a:ln>
        </p:spPr>
        <p:style>
          <a:lnRef idx="0"/>
          <a:fillRef idx="0"/>
          <a:effectRef idx="0"/>
          <a:fontRef idx="minor"/>
        </p:style>
        <p:txBody>
          <a:bodyPr lIns="90000" rIns="90000" tIns="-720" bIns="-720" anchor="t">
            <a:noAutofit/>
          </a:bodyPr>
          <a:p>
            <a:endParaRPr b="1" lang="en-US" sz="7600" spc="-1" strike="noStrike">
              <a:solidFill>
                <a:srgbClr val="ffd624"/>
              </a:solidFill>
              <a:latin typeface="Verdana"/>
            </a:endParaRPr>
          </a:p>
        </p:txBody>
      </p:sp>
      <p:sp>
        <p:nvSpPr>
          <p:cNvPr id="1117" name="Freeform 51"/>
          <p:cNvSpPr/>
          <p:nvPr/>
        </p:nvSpPr>
        <p:spPr>
          <a:xfrm>
            <a:off x="6138720" y="5538960"/>
            <a:ext cx="47880" cy="7920"/>
          </a:xfrm>
          <a:custGeom>
            <a:avLst/>
            <a:gdLst/>
            <a:ahLst/>
            <a:rect l="l" t="t" r="r" b="b"/>
            <a:pathLst>
              <a:path w="50659" h="7599">
                <a:moveTo>
                  <a:pt x="0" y="0"/>
                </a:moveTo>
                <a:lnTo>
                  <a:pt x="-14877" y="7599"/>
                </a:lnTo>
                <a:lnTo>
                  <a:pt x="0" y="0"/>
                </a:lnTo>
                <a:close/>
              </a:path>
            </a:pathLst>
          </a:custGeom>
          <a:solidFill>
            <a:srgbClr val="006c86"/>
          </a:solidFill>
          <a:ln w="12600">
            <a:solidFill>
              <a:srgbClr val="00b0f0"/>
            </a:solidFill>
            <a:round/>
          </a:ln>
        </p:spPr>
        <p:style>
          <a:lnRef idx="0"/>
          <a:fillRef idx="0"/>
          <a:effectRef idx="0"/>
          <a:fontRef idx="minor"/>
        </p:style>
        <p:txBody>
          <a:bodyPr lIns="90000" rIns="90000" tIns="-38880" bIns="-38880" anchor="t">
            <a:noAutofit/>
          </a:bodyPr>
          <a:p>
            <a:endParaRPr b="1" lang="en-US" sz="7600" spc="-1" strike="noStrike">
              <a:solidFill>
                <a:srgbClr val="ffd624"/>
              </a:solidFill>
              <a:latin typeface="Verdana"/>
            </a:endParaRPr>
          </a:p>
        </p:txBody>
      </p:sp>
      <p:sp>
        <p:nvSpPr>
          <p:cNvPr id="1118" name="Freeform 5"/>
          <p:cNvSpPr/>
          <p:nvPr/>
        </p:nvSpPr>
        <p:spPr>
          <a:xfrm>
            <a:off x="4060800" y="6184800"/>
            <a:ext cx="447840" cy="452520"/>
          </a:xfrm>
          <a:custGeom>
            <a:avLst/>
            <a:gdLst/>
            <a:ahLst/>
            <a:rect l="l" t="t" r="r" b="b"/>
            <a:pathLst>
              <a:path w="481913" h="488091">
                <a:moveTo>
                  <a:pt x="0" y="0"/>
                </a:moveTo>
                <a:lnTo>
                  <a:pt x="74140" y="475735"/>
                </a:lnTo>
                <a:lnTo>
                  <a:pt x="191529" y="457200"/>
                </a:lnTo>
                <a:lnTo>
                  <a:pt x="333632" y="488091"/>
                </a:lnTo>
                <a:lnTo>
                  <a:pt x="420129" y="457200"/>
                </a:lnTo>
                <a:lnTo>
                  <a:pt x="481913" y="383059"/>
                </a:lnTo>
                <a:lnTo>
                  <a:pt x="364524" y="407772"/>
                </a:lnTo>
                <a:lnTo>
                  <a:pt x="228600" y="327454"/>
                </a:lnTo>
                <a:lnTo>
                  <a:pt x="135924" y="210064"/>
                </a:lnTo>
                <a:lnTo>
                  <a:pt x="0"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19" name="TextBox 55"/>
          <p:cNvSpPr/>
          <p:nvPr/>
        </p:nvSpPr>
        <p:spPr>
          <a:xfrm>
            <a:off x="95400" y="2151000"/>
            <a:ext cx="2388960" cy="4425840"/>
          </a:xfrm>
          <a:prstGeom prst="rect">
            <a:avLst/>
          </a:prstGeom>
          <a:solidFill>
            <a:srgbClr val="f58220"/>
          </a:solidFill>
          <a:ln w="12600">
            <a:solidFill>
              <a:srgbClr val="00b0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Calibri"/>
                <a:ea typeface="ＭＳ Ｐゴシック"/>
              </a:rPr>
              <a:t>Northwest Province</a:t>
            </a: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Santiago del Estero</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Tucuman</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atamarca</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Salta y Jujuy</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CATAMARC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JUJUY</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SALT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SANTIAGO DEL ESTERO</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TUCAMAN</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1120" name="Freeform 13"/>
          <p:cNvSpPr/>
          <p:nvPr/>
        </p:nvSpPr>
        <p:spPr>
          <a:xfrm>
            <a:off x="3911760" y="-22320"/>
            <a:ext cx="596880" cy="577800"/>
          </a:xfrm>
          <a:custGeom>
            <a:avLst/>
            <a:gdLst/>
            <a:ahLst/>
            <a:rect l="l" t="t" r="r" b="b"/>
            <a:pathLst>
              <a:path w="597665" h="578386">
                <a:moveTo>
                  <a:pt x="187287" y="0"/>
                </a:moveTo>
                <a:lnTo>
                  <a:pt x="143219" y="96398"/>
                </a:lnTo>
                <a:lnTo>
                  <a:pt x="68855" y="134957"/>
                </a:lnTo>
                <a:lnTo>
                  <a:pt x="24788" y="190041"/>
                </a:lnTo>
                <a:lnTo>
                  <a:pt x="13771" y="242371"/>
                </a:lnTo>
                <a:lnTo>
                  <a:pt x="57839" y="294701"/>
                </a:lnTo>
                <a:lnTo>
                  <a:pt x="0" y="432412"/>
                </a:lnTo>
                <a:lnTo>
                  <a:pt x="55084" y="435167"/>
                </a:lnTo>
                <a:lnTo>
                  <a:pt x="137711" y="512285"/>
                </a:lnTo>
                <a:lnTo>
                  <a:pt x="168007" y="504022"/>
                </a:lnTo>
                <a:lnTo>
                  <a:pt x="181778" y="402116"/>
                </a:lnTo>
                <a:lnTo>
                  <a:pt x="176270" y="360803"/>
                </a:lnTo>
                <a:lnTo>
                  <a:pt x="203812" y="330506"/>
                </a:lnTo>
                <a:lnTo>
                  <a:pt x="256142" y="399362"/>
                </a:lnTo>
                <a:lnTo>
                  <a:pt x="225846" y="446183"/>
                </a:lnTo>
                <a:lnTo>
                  <a:pt x="286439" y="470971"/>
                </a:lnTo>
                <a:lnTo>
                  <a:pt x="308472" y="537073"/>
                </a:lnTo>
                <a:lnTo>
                  <a:pt x="377328" y="542581"/>
                </a:lnTo>
                <a:lnTo>
                  <a:pt x="465463" y="578386"/>
                </a:lnTo>
                <a:lnTo>
                  <a:pt x="465463" y="578386"/>
                </a:lnTo>
                <a:lnTo>
                  <a:pt x="504022" y="572877"/>
                </a:lnTo>
                <a:lnTo>
                  <a:pt x="561860" y="531564"/>
                </a:lnTo>
                <a:lnTo>
                  <a:pt x="597665" y="457200"/>
                </a:lnTo>
                <a:lnTo>
                  <a:pt x="592157" y="410379"/>
                </a:lnTo>
                <a:lnTo>
                  <a:pt x="578385" y="338769"/>
                </a:lnTo>
                <a:lnTo>
                  <a:pt x="526055" y="360803"/>
                </a:lnTo>
                <a:lnTo>
                  <a:pt x="495759" y="336015"/>
                </a:lnTo>
                <a:lnTo>
                  <a:pt x="443429" y="363557"/>
                </a:lnTo>
                <a:lnTo>
                  <a:pt x="413132" y="256142"/>
                </a:lnTo>
                <a:lnTo>
                  <a:pt x="363557" y="239617"/>
                </a:lnTo>
                <a:lnTo>
                  <a:pt x="363557" y="154236"/>
                </a:lnTo>
                <a:lnTo>
                  <a:pt x="380082" y="85381"/>
                </a:lnTo>
                <a:lnTo>
                  <a:pt x="324998" y="85381"/>
                </a:lnTo>
                <a:lnTo>
                  <a:pt x="278176" y="60593"/>
                </a:lnTo>
                <a:lnTo>
                  <a:pt x="225846" y="68856"/>
                </a:lnTo>
                <a:lnTo>
                  <a:pt x="187287"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1" name="Freeform 15"/>
          <p:cNvSpPr/>
          <p:nvPr/>
        </p:nvSpPr>
        <p:spPr>
          <a:xfrm>
            <a:off x="3668760" y="36360"/>
            <a:ext cx="1158840" cy="863640"/>
          </a:xfrm>
          <a:custGeom>
            <a:avLst/>
            <a:gdLst/>
            <a:ahLst/>
            <a:rect l="l" t="t" r="r" b="b"/>
            <a:pathLst>
              <a:path w="1159525" h="864824">
                <a:moveTo>
                  <a:pt x="619699" y="35805"/>
                </a:moveTo>
                <a:lnTo>
                  <a:pt x="696817" y="27542"/>
                </a:lnTo>
                <a:lnTo>
                  <a:pt x="782197" y="132202"/>
                </a:lnTo>
                <a:lnTo>
                  <a:pt x="840036" y="68855"/>
                </a:lnTo>
                <a:lnTo>
                  <a:pt x="820756" y="30296"/>
                </a:lnTo>
                <a:lnTo>
                  <a:pt x="867578" y="0"/>
                </a:lnTo>
                <a:lnTo>
                  <a:pt x="922663" y="41313"/>
                </a:lnTo>
                <a:lnTo>
                  <a:pt x="977747" y="13771"/>
                </a:lnTo>
                <a:lnTo>
                  <a:pt x="1096178" y="24788"/>
                </a:lnTo>
                <a:lnTo>
                  <a:pt x="1154017" y="118431"/>
                </a:lnTo>
                <a:lnTo>
                  <a:pt x="1159525" y="479234"/>
                </a:lnTo>
                <a:lnTo>
                  <a:pt x="969484" y="732622"/>
                </a:lnTo>
                <a:lnTo>
                  <a:pt x="815248" y="746393"/>
                </a:lnTo>
                <a:lnTo>
                  <a:pt x="760164" y="862070"/>
                </a:lnTo>
                <a:lnTo>
                  <a:pt x="655503" y="845544"/>
                </a:lnTo>
                <a:lnTo>
                  <a:pt x="608682" y="801477"/>
                </a:lnTo>
                <a:lnTo>
                  <a:pt x="553597" y="829019"/>
                </a:lnTo>
                <a:lnTo>
                  <a:pt x="548089" y="864824"/>
                </a:lnTo>
                <a:lnTo>
                  <a:pt x="465463" y="831773"/>
                </a:lnTo>
                <a:lnTo>
                  <a:pt x="413132" y="864824"/>
                </a:lnTo>
                <a:lnTo>
                  <a:pt x="347031" y="754655"/>
                </a:lnTo>
                <a:lnTo>
                  <a:pt x="393853" y="718850"/>
                </a:lnTo>
                <a:lnTo>
                  <a:pt x="388344" y="641732"/>
                </a:lnTo>
                <a:lnTo>
                  <a:pt x="209320" y="644487"/>
                </a:lnTo>
                <a:lnTo>
                  <a:pt x="181778" y="672029"/>
                </a:lnTo>
                <a:lnTo>
                  <a:pt x="41313" y="614190"/>
                </a:lnTo>
                <a:lnTo>
                  <a:pt x="0" y="575631"/>
                </a:lnTo>
                <a:lnTo>
                  <a:pt x="49576" y="501267"/>
                </a:lnTo>
                <a:lnTo>
                  <a:pt x="234108" y="429658"/>
                </a:lnTo>
                <a:lnTo>
                  <a:pt x="242371" y="371819"/>
                </a:lnTo>
                <a:lnTo>
                  <a:pt x="297455" y="374573"/>
                </a:lnTo>
                <a:lnTo>
                  <a:pt x="382836" y="459954"/>
                </a:lnTo>
                <a:lnTo>
                  <a:pt x="410378" y="454446"/>
                </a:lnTo>
                <a:lnTo>
                  <a:pt x="421395" y="305718"/>
                </a:lnTo>
                <a:lnTo>
                  <a:pt x="446183" y="269913"/>
                </a:lnTo>
                <a:lnTo>
                  <a:pt x="493005" y="327752"/>
                </a:lnTo>
                <a:lnTo>
                  <a:pt x="468217" y="391099"/>
                </a:lnTo>
                <a:lnTo>
                  <a:pt x="523301" y="418641"/>
                </a:lnTo>
                <a:lnTo>
                  <a:pt x="553597" y="479234"/>
                </a:lnTo>
                <a:lnTo>
                  <a:pt x="616944" y="481988"/>
                </a:lnTo>
                <a:lnTo>
                  <a:pt x="716096" y="520547"/>
                </a:lnTo>
                <a:lnTo>
                  <a:pt x="782197" y="481988"/>
                </a:lnTo>
                <a:lnTo>
                  <a:pt x="840036" y="385590"/>
                </a:lnTo>
                <a:lnTo>
                  <a:pt x="818002" y="275422"/>
                </a:lnTo>
                <a:lnTo>
                  <a:pt x="784952" y="308472"/>
                </a:lnTo>
                <a:lnTo>
                  <a:pt x="732622" y="272667"/>
                </a:lnTo>
                <a:lnTo>
                  <a:pt x="677537" y="302964"/>
                </a:lnTo>
                <a:lnTo>
                  <a:pt x="652749" y="198303"/>
                </a:lnTo>
                <a:lnTo>
                  <a:pt x="597665" y="184532"/>
                </a:lnTo>
                <a:lnTo>
                  <a:pt x="619699" y="35805"/>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2" name="Freeform 25"/>
          <p:cNvSpPr/>
          <p:nvPr/>
        </p:nvSpPr>
        <p:spPr>
          <a:xfrm>
            <a:off x="3608280" y="663480"/>
            <a:ext cx="792360" cy="989280"/>
          </a:xfrm>
          <a:custGeom>
            <a:avLst/>
            <a:gdLst/>
            <a:ahLst/>
            <a:rect l="l" t="t" r="r" b="b"/>
            <a:pathLst>
              <a:path w="793215" h="988764">
                <a:moveTo>
                  <a:pt x="115677" y="0"/>
                </a:moveTo>
                <a:lnTo>
                  <a:pt x="79872" y="115677"/>
                </a:lnTo>
                <a:lnTo>
                  <a:pt x="129448" y="209321"/>
                </a:lnTo>
                <a:lnTo>
                  <a:pt x="79872" y="269914"/>
                </a:lnTo>
                <a:lnTo>
                  <a:pt x="151482" y="363557"/>
                </a:lnTo>
                <a:lnTo>
                  <a:pt x="129448" y="418641"/>
                </a:lnTo>
                <a:lnTo>
                  <a:pt x="46822" y="413133"/>
                </a:lnTo>
                <a:lnTo>
                  <a:pt x="33051" y="481988"/>
                </a:lnTo>
                <a:lnTo>
                  <a:pt x="0" y="512285"/>
                </a:lnTo>
                <a:lnTo>
                  <a:pt x="0" y="545335"/>
                </a:lnTo>
                <a:lnTo>
                  <a:pt x="123940" y="526056"/>
                </a:lnTo>
                <a:lnTo>
                  <a:pt x="143219" y="603174"/>
                </a:lnTo>
                <a:lnTo>
                  <a:pt x="168007" y="630716"/>
                </a:lnTo>
                <a:lnTo>
                  <a:pt x="212075" y="614191"/>
                </a:lnTo>
                <a:lnTo>
                  <a:pt x="220337" y="652750"/>
                </a:lnTo>
                <a:lnTo>
                  <a:pt x="352540" y="669275"/>
                </a:lnTo>
                <a:lnTo>
                  <a:pt x="382836" y="616945"/>
                </a:lnTo>
                <a:lnTo>
                  <a:pt x="443429" y="625207"/>
                </a:lnTo>
                <a:lnTo>
                  <a:pt x="504022" y="702326"/>
                </a:lnTo>
                <a:lnTo>
                  <a:pt x="495759" y="749147"/>
                </a:lnTo>
                <a:lnTo>
                  <a:pt x="641733" y="873087"/>
                </a:lnTo>
                <a:lnTo>
                  <a:pt x="677537" y="988764"/>
                </a:lnTo>
                <a:lnTo>
                  <a:pt x="768427" y="980501"/>
                </a:lnTo>
                <a:lnTo>
                  <a:pt x="757410" y="911646"/>
                </a:lnTo>
                <a:lnTo>
                  <a:pt x="793215" y="875841"/>
                </a:lnTo>
                <a:lnTo>
                  <a:pt x="782198" y="812494"/>
                </a:lnTo>
                <a:lnTo>
                  <a:pt x="757410" y="784952"/>
                </a:lnTo>
                <a:lnTo>
                  <a:pt x="762918" y="735376"/>
                </a:lnTo>
                <a:lnTo>
                  <a:pt x="707834" y="672029"/>
                </a:lnTo>
                <a:lnTo>
                  <a:pt x="699571" y="567369"/>
                </a:lnTo>
                <a:lnTo>
                  <a:pt x="672029" y="548089"/>
                </a:lnTo>
                <a:lnTo>
                  <a:pt x="638978" y="572877"/>
                </a:lnTo>
                <a:lnTo>
                  <a:pt x="572877" y="487497"/>
                </a:lnTo>
                <a:lnTo>
                  <a:pt x="564615" y="424150"/>
                </a:lnTo>
                <a:lnTo>
                  <a:pt x="515039" y="404870"/>
                </a:lnTo>
                <a:lnTo>
                  <a:pt x="550843" y="366311"/>
                </a:lnTo>
                <a:lnTo>
                  <a:pt x="553598" y="305718"/>
                </a:lnTo>
                <a:lnTo>
                  <a:pt x="534318" y="289193"/>
                </a:lnTo>
                <a:lnTo>
                  <a:pt x="545335" y="212075"/>
                </a:lnTo>
                <a:lnTo>
                  <a:pt x="470971" y="236863"/>
                </a:lnTo>
                <a:lnTo>
                  <a:pt x="413133" y="129448"/>
                </a:lnTo>
                <a:lnTo>
                  <a:pt x="457200" y="85381"/>
                </a:lnTo>
                <a:lnTo>
                  <a:pt x="446183" y="5509"/>
                </a:lnTo>
                <a:lnTo>
                  <a:pt x="275422" y="16526"/>
                </a:lnTo>
                <a:lnTo>
                  <a:pt x="236863" y="49576"/>
                </a:lnTo>
                <a:lnTo>
                  <a:pt x="115677"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3" name="Freeform 31"/>
          <p:cNvSpPr/>
          <p:nvPr/>
        </p:nvSpPr>
        <p:spPr>
          <a:xfrm>
            <a:off x="4130640" y="836640"/>
            <a:ext cx="309600" cy="404640"/>
          </a:xfrm>
          <a:custGeom>
            <a:avLst/>
            <a:gdLst/>
            <a:ahLst/>
            <a:rect l="l" t="t" r="r" b="b"/>
            <a:pathLst>
              <a:path w="308473" h="404870">
                <a:moveTo>
                  <a:pt x="77118" y="63347"/>
                </a:moveTo>
                <a:lnTo>
                  <a:pt x="24788" y="41313"/>
                </a:lnTo>
                <a:lnTo>
                  <a:pt x="16526" y="123940"/>
                </a:lnTo>
                <a:lnTo>
                  <a:pt x="38559" y="151482"/>
                </a:lnTo>
                <a:lnTo>
                  <a:pt x="30297" y="192795"/>
                </a:lnTo>
                <a:lnTo>
                  <a:pt x="0" y="234108"/>
                </a:lnTo>
                <a:lnTo>
                  <a:pt x="38559" y="256142"/>
                </a:lnTo>
                <a:lnTo>
                  <a:pt x="55085" y="330506"/>
                </a:lnTo>
                <a:lnTo>
                  <a:pt x="112923" y="402116"/>
                </a:lnTo>
                <a:lnTo>
                  <a:pt x="156991" y="385590"/>
                </a:lnTo>
                <a:lnTo>
                  <a:pt x="190041" y="404870"/>
                </a:lnTo>
                <a:lnTo>
                  <a:pt x="217583" y="363557"/>
                </a:lnTo>
                <a:lnTo>
                  <a:pt x="239617" y="349785"/>
                </a:lnTo>
                <a:lnTo>
                  <a:pt x="225846" y="280930"/>
                </a:lnTo>
                <a:lnTo>
                  <a:pt x="300210" y="168007"/>
                </a:lnTo>
                <a:lnTo>
                  <a:pt x="308473" y="63347"/>
                </a:lnTo>
                <a:lnTo>
                  <a:pt x="192795" y="44067"/>
                </a:lnTo>
                <a:lnTo>
                  <a:pt x="137711" y="0"/>
                </a:lnTo>
                <a:lnTo>
                  <a:pt x="77118" y="63347"/>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4" name="Freeform 32"/>
          <p:cNvSpPr/>
          <p:nvPr/>
        </p:nvSpPr>
        <p:spPr>
          <a:xfrm>
            <a:off x="4822920" y="149400"/>
            <a:ext cx="896760" cy="861840"/>
          </a:xfrm>
          <a:custGeom>
            <a:avLst/>
            <a:gdLst/>
            <a:ahLst/>
            <a:rect l="l" t="t" r="r" b="b"/>
            <a:pathLst>
              <a:path w="897874" h="862070">
                <a:moveTo>
                  <a:pt x="0" y="0"/>
                </a:moveTo>
                <a:lnTo>
                  <a:pt x="8262" y="324997"/>
                </a:lnTo>
                <a:lnTo>
                  <a:pt x="68855" y="341523"/>
                </a:lnTo>
                <a:lnTo>
                  <a:pt x="115677" y="393853"/>
                </a:lnTo>
                <a:lnTo>
                  <a:pt x="267159" y="462708"/>
                </a:lnTo>
                <a:lnTo>
                  <a:pt x="404870" y="622453"/>
                </a:lnTo>
                <a:lnTo>
                  <a:pt x="493005" y="746392"/>
                </a:lnTo>
                <a:lnTo>
                  <a:pt x="592156" y="773935"/>
                </a:lnTo>
                <a:lnTo>
                  <a:pt x="707833" y="862070"/>
                </a:lnTo>
                <a:lnTo>
                  <a:pt x="754655" y="812494"/>
                </a:lnTo>
                <a:lnTo>
                  <a:pt x="751901" y="771180"/>
                </a:lnTo>
                <a:lnTo>
                  <a:pt x="870332" y="603173"/>
                </a:lnTo>
                <a:lnTo>
                  <a:pt x="897874" y="592156"/>
                </a:lnTo>
                <a:lnTo>
                  <a:pt x="806985" y="487496"/>
                </a:lnTo>
                <a:lnTo>
                  <a:pt x="765672" y="470971"/>
                </a:lnTo>
                <a:lnTo>
                  <a:pt x="729867" y="490250"/>
                </a:lnTo>
                <a:lnTo>
                  <a:pt x="685800" y="446183"/>
                </a:lnTo>
                <a:lnTo>
                  <a:pt x="633470" y="462708"/>
                </a:lnTo>
                <a:lnTo>
                  <a:pt x="495759" y="377327"/>
                </a:lnTo>
                <a:lnTo>
                  <a:pt x="481988" y="322243"/>
                </a:lnTo>
                <a:lnTo>
                  <a:pt x="327752" y="253388"/>
                </a:lnTo>
                <a:lnTo>
                  <a:pt x="272667" y="278176"/>
                </a:lnTo>
                <a:lnTo>
                  <a:pt x="0" y="0"/>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5" name="Freeform 33"/>
          <p:cNvSpPr/>
          <p:nvPr/>
        </p:nvSpPr>
        <p:spPr>
          <a:xfrm>
            <a:off x="4640400" y="482760"/>
            <a:ext cx="884160" cy="758520"/>
          </a:xfrm>
          <a:custGeom>
            <a:avLst/>
            <a:gdLst/>
            <a:ahLst/>
            <a:rect l="l" t="t" r="r" b="b"/>
            <a:pathLst>
              <a:path w="884104" h="760164">
                <a:moveTo>
                  <a:pt x="184533" y="0"/>
                </a:moveTo>
                <a:lnTo>
                  <a:pt x="0" y="291947"/>
                </a:lnTo>
                <a:lnTo>
                  <a:pt x="297456" y="291947"/>
                </a:lnTo>
                <a:lnTo>
                  <a:pt x="305718" y="738130"/>
                </a:lnTo>
                <a:lnTo>
                  <a:pt x="776690" y="760164"/>
                </a:lnTo>
                <a:lnTo>
                  <a:pt x="801478" y="707834"/>
                </a:lnTo>
                <a:lnTo>
                  <a:pt x="790461" y="661012"/>
                </a:lnTo>
                <a:lnTo>
                  <a:pt x="884104" y="531564"/>
                </a:lnTo>
                <a:lnTo>
                  <a:pt x="779444" y="440675"/>
                </a:lnTo>
                <a:lnTo>
                  <a:pt x="680292" y="418641"/>
                </a:lnTo>
                <a:lnTo>
                  <a:pt x="451692" y="118431"/>
                </a:lnTo>
                <a:lnTo>
                  <a:pt x="294702" y="57839"/>
                </a:lnTo>
                <a:lnTo>
                  <a:pt x="242372" y="2754"/>
                </a:lnTo>
                <a:lnTo>
                  <a:pt x="184533" y="0"/>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6" name="Freeform 34"/>
          <p:cNvSpPr/>
          <p:nvPr/>
        </p:nvSpPr>
        <p:spPr>
          <a:xfrm>
            <a:off x="4309920" y="771480"/>
            <a:ext cx="640080" cy="914400"/>
          </a:xfrm>
          <a:custGeom>
            <a:avLst/>
            <a:gdLst/>
            <a:ahLst/>
            <a:rect l="l" t="t" r="r" b="b"/>
            <a:pathLst>
              <a:path w="638979" h="914400">
                <a:moveTo>
                  <a:pt x="170762" y="0"/>
                </a:moveTo>
                <a:lnTo>
                  <a:pt x="115678" y="123939"/>
                </a:lnTo>
                <a:lnTo>
                  <a:pt x="118432" y="250633"/>
                </a:lnTo>
                <a:lnTo>
                  <a:pt x="46822" y="341523"/>
                </a:lnTo>
                <a:lnTo>
                  <a:pt x="55085" y="418641"/>
                </a:lnTo>
                <a:lnTo>
                  <a:pt x="8263" y="470971"/>
                </a:lnTo>
                <a:lnTo>
                  <a:pt x="0" y="575631"/>
                </a:lnTo>
                <a:lnTo>
                  <a:pt x="60593" y="630715"/>
                </a:lnTo>
                <a:lnTo>
                  <a:pt x="60593" y="691308"/>
                </a:lnTo>
                <a:lnTo>
                  <a:pt x="77118" y="732621"/>
                </a:lnTo>
                <a:lnTo>
                  <a:pt x="96398" y="779443"/>
                </a:lnTo>
                <a:lnTo>
                  <a:pt x="261651" y="790460"/>
                </a:lnTo>
                <a:lnTo>
                  <a:pt x="278176" y="779443"/>
                </a:lnTo>
                <a:lnTo>
                  <a:pt x="300210" y="812494"/>
                </a:lnTo>
                <a:lnTo>
                  <a:pt x="366311" y="812494"/>
                </a:lnTo>
                <a:lnTo>
                  <a:pt x="415887" y="812494"/>
                </a:lnTo>
                <a:lnTo>
                  <a:pt x="424150" y="837282"/>
                </a:lnTo>
                <a:lnTo>
                  <a:pt x="448938" y="842790"/>
                </a:lnTo>
                <a:lnTo>
                  <a:pt x="451692" y="903383"/>
                </a:lnTo>
                <a:lnTo>
                  <a:pt x="512285" y="914400"/>
                </a:lnTo>
                <a:lnTo>
                  <a:pt x="548090" y="903383"/>
                </a:lnTo>
                <a:lnTo>
                  <a:pt x="638979" y="437920"/>
                </a:lnTo>
                <a:lnTo>
                  <a:pt x="622453" y="0"/>
                </a:lnTo>
                <a:lnTo>
                  <a:pt x="170762"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7" name="Freeform 35"/>
          <p:cNvSpPr/>
          <p:nvPr/>
        </p:nvSpPr>
        <p:spPr>
          <a:xfrm>
            <a:off x="3525840" y="1195560"/>
            <a:ext cx="771480" cy="834840"/>
          </a:xfrm>
          <a:custGeom>
            <a:avLst/>
            <a:gdLst/>
            <a:ahLst/>
            <a:rect l="l" t="t" r="r" b="b"/>
            <a:pathLst>
              <a:path w="771181" h="834528">
                <a:moveTo>
                  <a:pt x="93644" y="24788"/>
                </a:moveTo>
                <a:lnTo>
                  <a:pt x="0" y="156990"/>
                </a:lnTo>
                <a:lnTo>
                  <a:pt x="57839" y="170761"/>
                </a:lnTo>
                <a:lnTo>
                  <a:pt x="132203" y="236863"/>
                </a:lnTo>
                <a:lnTo>
                  <a:pt x="137711" y="388344"/>
                </a:lnTo>
                <a:lnTo>
                  <a:pt x="187287" y="415887"/>
                </a:lnTo>
                <a:lnTo>
                  <a:pt x="228600" y="385590"/>
                </a:lnTo>
                <a:lnTo>
                  <a:pt x="446184" y="611436"/>
                </a:lnTo>
                <a:lnTo>
                  <a:pt x="457200" y="724359"/>
                </a:lnTo>
                <a:lnTo>
                  <a:pt x="512285" y="826265"/>
                </a:lnTo>
                <a:lnTo>
                  <a:pt x="674784" y="834528"/>
                </a:lnTo>
                <a:lnTo>
                  <a:pt x="710588" y="826265"/>
                </a:lnTo>
                <a:lnTo>
                  <a:pt x="707834" y="616944"/>
                </a:lnTo>
                <a:lnTo>
                  <a:pt x="771181" y="468217"/>
                </a:lnTo>
                <a:lnTo>
                  <a:pt x="707834" y="333260"/>
                </a:lnTo>
                <a:lnTo>
                  <a:pt x="575632" y="220337"/>
                </a:lnTo>
                <a:lnTo>
                  <a:pt x="589403" y="176270"/>
                </a:lnTo>
                <a:lnTo>
                  <a:pt x="534318" y="99152"/>
                </a:lnTo>
                <a:lnTo>
                  <a:pt x="470971" y="85381"/>
                </a:lnTo>
                <a:lnTo>
                  <a:pt x="443429" y="145973"/>
                </a:lnTo>
                <a:lnTo>
                  <a:pt x="308473" y="134957"/>
                </a:lnTo>
                <a:lnTo>
                  <a:pt x="291947" y="79872"/>
                </a:lnTo>
                <a:lnTo>
                  <a:pt x="245126" y="99152"/>
                </a:lnTo>
                <a:lnTo>
                  <a:pt x="203812" y="0"/>
                </a:lnTo>
                <a:lnTo>
                  <a:pt x="93644" y="24788"/>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8" name="Freeform 36"/>
          <p:cNvSpPr/>
          <p:nvPr/>
        </p:nvSpPr>
        <p:spPr>
          <a:xfrm>
            <a:off x="3384720" y="1344600"/>
            <a:ext cx="647640" cy="839880"/>
          </a:xfrm>
          <a:custGeom>
            <a:avLst/>
            <a:gdLst/>
            <a:ahLst/>
            <a:rect l="l" t="t" r="r" b="b"/>
            <a:pathLst>
              <a:path w="647240" h="840036">
                <a:moveTo>
                  <a:pt x="140465" y="0"/>
                </a:moveTo>
                <a:lnTo>
                  <a:pt x="151481" y="55084"/>
                </a:lnTo>
                <a:lnTo>
                  <a:pt x="121185" y="85381"/>
                </a:lnTo>
                <a:lnTo>
                  <a:pt x="137710" y="148728"/>
                </a:lnTo>
                <a:lnTo>
                  <a:pt x="85380" y="179024"/>
                </a:lnTo>
                <a:lnTo>
                  <a:pt x="104660" y="278176"/>
                </a:lnTo>
                <a:lnTo>
                  <a:pt x="85380" y="302964"/>
                </a:lnTo>
                <a:lnTo>
                  <a:pt x="126694" y="344277"/>
                </a:lnTo>
                <a:lnTo>
                  <a:pt x="101906" y="399361"/>
                </a:lnTo>
                <a:lnTo>
                  <a:pt x="66101" y="385590"/>
                </a:lnTo>
                <a:lnTo>
                  <a:pt x="49575" y="437920"/>
                </a:lnTo>
                <a:lnTo>
                  <a:pt x="60592" y="459954"/>
                </a:lnTo>
                <a:lnTo>
                  <a:pt x="33050" y="479234"/>
                </a:lnTo>
                <a:lnTo>
                  <a:pt x="52330" y="531564"/>
                </a:lnTo>
                <a:lnTo>
                  <a:pt x="44067" y="556352"/>
                </a:lnTo>
                <a:lnTo>
                  <a:pt x="0" y="539826"/>
                </a:lnTo>
                <a:lnTo>
                  <a:pt x="2754" y="600419"/>
                </a:lnTo>
                <a:lnTo>
                  <a:pt x="24787" y="672029"/>
                </a:lnTo>
                <a:lnTo>
                  <a:pt x="74363" y="716096"/>
                </a:lnTo>
                <a:lnTo>
                  <a:pt x="57838" y="757409"/>
                </a:lnTo>
                <a:lnTo>
                  <a:pt x="107414" y="840036"/>
                </a:lnTo>
                <a:lnTo>
                  <a:pt x="151481" y="826265"/>
                </a:lnTo>
                <a:lnTo>
                  <a:pt x="195549" y="812494"/>
                </a:lnTo>
                <a:lnTo>
                  <a:pt x="201057" y="751901"/>
                </a:lnTo>
                <a:lnTo>
                  <a:pt x="278175" y="716096"/>
                </a:lnTo>
                <a:lnTo>
                  <a:pt x="341522" y="776689"/>
                </a:lnTo>
                <a:lnTo>
                  <a:pt x="448937" y="702325"/>
                </a:lnTo>
                <a:lnTo>
                  <a:pt x="473725" y="740884"/>
                </a:lnTo>
                <a:lnTo>
                  <a:pt x="517792" y="738130"/>
                </a:lnTo>
                <a:lnTo>
                  <a:pt x="567368" y="760164"/>
                </a:lnTo>
                <a:lnTo>
                  <a:pt x="559106" y="669275"/>
                </a:lnTo>
                <a:lnTo>
                  <a:pt x="625207" y="674783"/>
                </a:lnTo>
                <a:lnTo>
                  <a:pt x="647240" y="666520"/>
                </a:lnTo>
                <a:lnTo>
                  <a:pt x="592156" y="567369"/>
                </a:lnTo>
                <a:lnTo>
                  <a:pt x="581139" y="459954"/>
                </a:lnTo>
                <a:lnTo>
                  <a:pt x="358048" y="236862"/>
                </a:lnTo>
                <a:lnTo>
                  <a:pt x="316734" y="258896"/>
                </a:lnTo>
                <a:lnTo>
                  <a:pt x="286438" y="242371"/>
                </a:lnTo>
                <a:lnTo>
                  <a:pt x="272667" y="85381"/>
                </a:lnTo>
                <a:lnTo>
                  <a:pt x="203812" y="16525"/>
                </a:lnTo>
                <a:lnTo>
                  <a:pt x="140465"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9" name="Freeform 37"/>
          <p:cNvSpPr/>
          <p:nvPr/>
        </p:nvSpPr>
        <p:spPr>
          <a:xfrm>
            <a:off x="5268960" y="1060560"/>
            <a:ext cx="731880" cy="749160"/>
          </a:xfrm>
          <a:custGeom>
            <a:avLst/>
            <a:gdLst/>
            <a:ahLst/>
            <a:rect l="l" t="t" r="r" b="b"/>
            <a:pathLst>
              <a:path w="732622" h="749147">
                <a:moveTo>
                  <a:pt x="209320" y="16526"/>
                </a:moveTo>
                <a:lnTo>
                  <a:pt x="173516" y="90890"/>
                </a:lnTo>
                <a:lnTo>
                  <a:pt x="170761" y="140466"/>
                </a:lnTo>
                <a:lnTo>
                  <a:pt x="151482" y="168008"/>
                </a:lnTo>
                <a:lnTo>
                  <a:pt x="121185" y="225846"/>
                </a:lnTo>
                <a:lnTo>
                  <a:pt x="132202" y="275422"/>
                </a:lnTo>
                <a:lnTo>
                  <a:pt x="101906" y="308473"/>
                </a:lnTo>
                <a:lnTo>
                  <a:pt x="99152" y="352540"/>
                </a:lnTo>
                <a:lnTo>
                  <a:pt x="30296" y="418641"/>
                </a:lnTo>
                <a:lnTo>
                  <a:pt x="0" y="658258"/>
                </a:lnTo>
                <a:lnTo>
                  <a:pt x="88135" y="622454"/>
                </a:lnTo>
                <a:lnTo>
                  <a:pt x="192795" y="603174"/>
                </a:lnTo>
                <a:lnTo>
                  <a:pt x="228600" y="600420"/>
                </a:lnTo>
                <a:lnTo>
                  <a:pt x="319489" y="749147"/>
                </a:lnTo>
                <a:lnTo>
                  <a:pt x="360802" y="641733"/>
                </a:lnTo>
                <a:lnTo>
                  <a:pt x="435166" y="581140"/>
                </a:lnTo>
                <a:lnTo>
                  <a:pt x="413132" y="553598"/>
                </a:lnTo>
                <a:lnTo>
                  <a:pt x="479234" y="490251"/>
                </a:lnTo>
                <a:lnTo>
                  <a:pt x="520547" y="504022"/>
                </a:lnTo>
                <a:lnTo>
                  <a:pt x="559106" y="437921"/>
                </a:lnTo>
                <a:lnTo>
                  <a:pt x="616944" y="413133"/>
                </a:lnTo>
                <a:lnTo>
                  <a:pt x="644487" y="349786"/>
                </a:lnTo>
                <a:lnTo>
                  <a:pt x="732622" y="256143"/>
                </a:lnTo>
                <a:lnTo>
                  <a:pt x="691308" y="134957"/>
                </a:lnTo>
                <a:lnTo>
                  <a:pt x="705079" y="66102"/>
                </a:lnTo>
                <a:lnTo>
                  <a:pt x="630716" y="121186"/>
                </a:lnTo>
                <a:lnTo>
                  <a:pt x="578385" y="90890"/>
                </a:lnTo>
                <a:lnTo>
                  <a:pt x="553597" y="118432"/>
                </a:lnTo>
                <a:lnTo>
                  <a:pt x="454446" y="60593"/>
                </a:lnTo>
                <a:lnTo>
                  <a:pt x="319489" y="0"/>
                </a:lnTo>
                <a:lnTo>
                  <a:pt x="209320" y="16526"/>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0" name="Freeform 38"/>
          <p:cNvSpPr/>
          <p:nvPr/>
        </p:nvSpPr>
        <p:spPr>
          <a:xfrm>
            <a:off x="5969160" y="760320"/>
            <a:ext cx="436320" cy="542880"/>
          </a:xfrm>
          <a:custGeom>
            <a:avLst/>
            <a:gdLst/>
            <a:ahLst/>
            <a:rect l="l" t="t" r="r" b="b"/>
            <a:pathLst>
              <a:path w="437920" h="542581">
                <a:moveTo>
                  <a:pt x="2754" y="374573"/>
                </a:moveTo>
                <a:lnTo>
                  <a:pt x="57839" y="322243"/>
                </a:lnTo>
                <a:lnTo>
                  <a:pt x="217583" y="253388"/>
                </a:lnTo>
                <a:lnTo>
                  <a:pt x="261651" y="118431"/>
                </a:lnTo>
                <a:lnTo>
                  <a:pt x="253388" y="66101"/>
                </a:lnTo>
                <a:lnTo>
                  <a:pt x="261651" y="0"/>
                </a:lnTo>
                <a:lnTo>
                  <a:pt x="363557" y="8263"/>
                </a:lnTo>
                <a:lnTo>
                  <a:pt x="429658" y="96397"/>
                </a:lnTo>
                <a:lnTo>
                  <a:pt x="402116" y="121185"/>
                </a:lnTo>
                <a:lnTo>
                  <a:pt x="437920" y="225846"/>
                </a:lnTo>
                <a:lnTo>
                  <a:pt x="385590" y="333260"/>
                </a:lnTo>
                <a:lnTo>
                  <a:pt x="349785" y="363556"/>
                </a:lnTo>
                <a:lnTo>
                  <a:pt x="275422" y="404870"/>
                </a:lnTo>
                <a:lnTo>
                  <a:pt x="223092" y="459954"/>
                </a:lnTo>
                <a:lnTo>
                  <a:pt x="170761" y="459954"/>
                </a:lnTo>
                <a:lnTo>
                  <a:pt x="41313" y="542581"/>
                </a:lnTo>
                <a:lnTo>
                  <a:pt x="0" y="440675"/>
                </a:lnTo>
                <a:lnTo>
                  <a:pt x="2754" y="374573"/>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1" name="Freeform 39"/>
          <p:cNvSpPr/>
          <p:nvPr/>
        </p:nvSpPr>
        <p:spPr>
          <a:xfrm>
            <a:off x="5065560" y="1657440"/>
            <a:ext cx="559080" cy="796680"/>
          </a:xfrm>
          <a:custGeom>
            <a:avLst/>
            <a:gdLst/>
            <a:ahLst/>
            <a:rect l="l" t="t" r="r" b="b"/>
            <a:pathLst>
              <a:path w="559106" h="795968">
                <a:moveTo>
                  <a:pt x="203812" y="55084"/>
                </a:moveTo>
                <a:lnTo>
                  <a:pt x="159744" y="187286"/>
                </a:lnTo>
                <a:lnTo>
                  <a:pt x="99152" y="291947"/>
                </a:lnTo>
                <a:lnTo>
                  <a:pt x="46822" y="313980"/>
                </a:lnTo>
                <a:lnTo>
                  <a:pt x="0" y="448937"/>
                </a:lnTo>
                <a:lnTo>
                  <a:pt x="22034" y="561860"/>
                </a:lnTo>
                <a:lnTo>
                  <a:pt x="145973" y="707833"/>
                </a:lnTo>
                <a:lnTo>
                  <a:pt x="402115" y="795968"/>
                </a:lnTo>
                <a:cubicBezTo>
                  <a:pt x="403033" y="758327"/>
                  <a:pt x="403952" y="720686"/>
                  <a:pt x="404870" y="683045"/>
                </a:cubicBezTo>
                <a:lnTo>
                  <a:pt x="393853" y="638978"/>
                </a:lnTo>
                <a:lnTo>
                  <a:pt x="437920" y="583894"/>
                </a:lnTo>
                <a:lnTo>
                  <a:pt x="437920" y="481988"/>
                </a:lnTo>
                <a:lnTo>
                  <a:pt x="476479" y="429657"/>
                </a:lnTo>
                <a:lnTo>
                  <a:pt x="462708" y="349785"/>
                </a:lnTo>
                <a:lnTo>
                  <a:pt x="490250" y="324997"/>
                </a:lnTo>
                <a:lnTo>
                  <a:pt x="476479" y="272667"/>
                </a:lnTo>
                <a:lnTo>
                  <a:pt x="559106" y="236862"/>
                </a:lnTo>
                <a:lnTo>
                  <a:pt x="528809" y="195549"/>
                </a:lnTo>
                <a:lnTo>
                  <a:pt x="548089" y="168007"/>
                </a:lnTo>
                <a:lnTo>
                  <a:pt x="512284" y="134956"/>
                </a:lnTo>
                <a:lnTo>
                  <a:pt x="415887" y="0"/>
                </a:lnTo>
                <a:lnTo>
                  <a:pt x="203812" y="55084"/>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2" name="Freeform 40"/>
          <p:cNvSpPr/>
          <p:nvPr/>
        </p:nvSpPr>
        <p:spPr>
          <a:xfrm>
            <a:off x="4722840" y="1220760"/>
            <a:ext cx="685800" cy="1279440"/>
          </a:xfrm>
          <a:custGeom>
            <a:avLst/>
            <a:gdLst/>
            <a:ahLst/>
            <a:rect l="l" t="t" r="r" b="b"/>
            <a:pathLst>
              <a:path w="685800" h="1280711">
                <a:moveTo>
                  <a:pt x="223091" y="0"/>
                </a:moveTo>
                <a:lnTo>
                  <a:pt x="140465" y="451692"/>
                </a:lnTo>
                <a:lnTo>
                  <a:pt x="107414" y="468217"/>
                </a:lnTo>
                <a:lnTo>
                  <a:pt x="187287" y="586648"/>
                </a:lnTo>
                <a:lnTo>
                  <a:pt x="118431" y="762918"/>
                </a:lnTo>
                <a:lnTo>
                  <a:pt x="145973" y="795969"/>
                </a:lnTo>
                <a:lnTo>
                  <a:pt x="112923" y="820757"/>
                </a:lnTo>
                <a:lnTo>
                  <a:pt x="201058" y="991518"/>
                </a:lnTo>
                <a:lnTo>
                  <a:pt x="0" y="1264186"/>
                </a:lnTo>
                <a:lnTo>
                  <a:pt x="212075" y="1280711"/>
                </a:lnTo>
                <a:lnTo>
                  <a:pt x="366311" y="1096178"/>
                </a:lnTo>
                <a:lnTo>
                  <a:pt x="415887" y="1098933"/>
                </a:lnTo>
                <a:lnTo>
                  <a:pt x="443429" y="1096178"/>
                </a:lnTo>
                <a:lnTo>
                  <a:pt x="355294" y="1002535"/>
                </a:lnTo>
                <a:lnTo>
                  <a:pt x="344277" y="892366"/>
                </a:lnTo>
                <a:lnTo>
                  <a:pt x="385590" y="743639"/>
                </a:lnTo>
                <a:lnTo>
                  <a:pt x="448937" y="729868"/>
                </a:lnTo>
                <a:lnTo>
                  <a:pt x="550843" y="490251"/>
                </a:lnTo>
                <a:lnTo>
                  <a:pt x="583894" y="245125"/>
                </a:lnTo>
                <a:lnTo>
                  <a:pt x="638978" y="201058"/>
                </a:lnTo>
                <a:lnTo>
                  <a:pt x="647241" y="148728"/>
                </a:lnTo>
                <a:lnTo>
                  <a:pt x="677537" y="99152"/>
                </a:lnTo>
                <a:lnTo>
                  <a:pt x="666520" y="55084"/>
                </a:lnTo>
                <a:lnTo>
                  <a:pt x="685800" y="16525"/>
                </a:lnTo>
                <a:lnTo>
                  <a:pt x="223091"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3" name="Freeform 41"/>
          <p:cNvSpPr/>
          <p:nvPr/>
        </p:nvSpPr>
        <p:spPr>
          <a:xfrm>
            <a:off x="4230720" y="1542960"/>
            <a:ext cx="693720" cy="1092240"/>
          </a:xfrm>
          <a:custGeom>
            <a:avLst/>
            <a:gdLst/>
            <a:ahLst/>
            <a:rect l="l" t="t" r="r" b="b"/>
            <a:pathLst>
              <a:path w="694063" h="1093425">
                <a:moveTo>
                  <a:pt x="151482" y="110169"/>
                </a:moveTo>
                <a:lnTo>
                  <a:pt x="79872" y="104661"/>
                </a:lnTo>
                <a:lnTo>
                  <a:pt x="0" y="272668"/>
                </a:lnTo>
                <a:lnTo>
                  <a:pt x="0" y="481988"/>
                </a:lnTo>
                <a:lnTo>
                  <a:pt x="57839" y="506776"/>
                </a:lnTo>
                <a:lnTo>
                  <a:pt x="96398" y="556352"/>
                </a:lnTo>
                <a:lnTo>
                  <a:pt x="143219" y="570123"/>
                </a:lnTo>
                <a:lnTo>
                  <a:pt x="143219" y="638979"/>
                </a:lnTo>
                <a:lnTo>
                  <a:pt x="104660" y="754656"/>
                </a:lnTo>
                <a:lnTo>
                  <a:pt x="121186" y="1093425"/>
                </a:lnTo>
                <a:lnTo>
                  <a:pt x="426904" y="1076899"/>
                </a:lnTo>
                <a:lnTo>
                  <a:pt x="421395" y="950205"/>
                </a:lnTo>
                <a:lnTo>
                  <a:pt x="501268" y="944697"/>
                </a:lnTo>
                <a:lnTo>
                  <a:pt x="694063" y="663767"/>
                </a:lnTo>
                <a:lnTo>
                  <a:pt x="611436" y="501268"/>
                </a:lnTo>
                <a:lnTo>
                  <a:pt x="638978" y="465463"/>
                </a:lnTo>
                <a:lnTo>
                  <a:pt x="608682" y="443429"/>
                </a:lnTo>
                <a:lnTo>
                  <a:pt x="685800" y="258897"/>
                </a:lnTo>
                <a:lnTo>
                  <a:pt x="600419" y="137711"/>
                </a:lnTo>
                <a:lnTo>
                  <a:pt x="539827" y="126694"/>
                </a:lnTo>
                <a:lnTo>
                  <a:pt x="520547" y="68856"/>
                </a:lnTo>
                <a:lnTo>
                  <a:pt x="509530" y="55085"/>
                </a:lnTo>
                <a:lnTo>
                  <a:pt x="493005" y="35805"/>
                </a:lnTo>
                <a:lnTo>
                  <a:pt x="380082" y="44068"/>
                </a:lnTo>
                <a:lnTo>
                  <a:pt x="355294" y="8263"/>
                </a:lnTo>
                <a:lnTo>
                  <a:pt x="330506" y="27543"/>
                </a:lnTo>
                <a:lnTo>
                  <a:pt x="170762" y="0"/>
                </a:lnTo>
                <a:lnTo>
                  <a:pt x="134957" y="38559"/>
                </a:lnTo>
                <a:lnTo>
                  <a:pt x="151482" y="11016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4" name="Freeform 45"/>
          <p:cNvSpPr/>
          <p:nvPr/>
        </p:nvSpPr>
        <p:spPr>
          <a:xfrm>
            <a:off x="3941640" y="2011320"/>
            <a:ext cx="435240" cy="809640"/>
          </a:xfrm>
          <a:custGeom>
            <a:avLst/>
            <a:gdLst/>
            <a:ahLst/>
            <a:rect l="l" t="t" r="r" b="b"/>
            <a:pathLst>
              <a:path w="435167" h="809740">
                <a:moveTo>
                  <a:pt x="0" y="5509"/>
                </a:moveTo>
                <a:cubicBezTo>
                  <a:pt x="918" y="34887"/>
                  <a:pt x="1837" y="64266"/>
                  <a:pt x="2755" y="93644"/>
                </a:cubicBezTo>
                <a:lnTo>
                  <a:pt x="44068" y="181779"/>
                </a:lnTo>
                <a:lnTo>
                  <a:pt x="27543" y="209321"/>
                </a:lnTo>
                <a:lnTo>
                  <a:pt x="38559" y="308473"/>
                </a:lnTo>
                <a:lnTo>
                  <a:pt x="145974" y="421395"/>
                </a:lnTo>
                <a:lnTo>
                  <a:pt x="118432" y="465463"/>
                </a:lnTo>
                <a:lnTo>
                  <a:pt x="143220" y="515039"/>
                </a:lnTo>
                <a:lnTo>
                  <a:pt x="129449" y="556352"/>
                </a:lnTo>
                <a:lnTo>
                  <a:pt x="170762" y="597665"/>
                </a:lnTo>
                <a:lnTo>
                  <a:pt x="173516" y="644487"/>
                </a:lnTo>
                <a:lnTo>
                  <a:pt x="184533" y="696817"/>
                </a:lnTo>
                <a:lnTo>
                  <a:pt x="143220" y="809740"/>
                </a:lnTo>
                <a:lnTo>
                  <a:pt x="410379" y="804232"/>
                </a:lnTo>
                <a:lnTo>
                  <a:pt x="396608" y="291947"/>
                </a:lnTo>
                <a:lnTo>
                  <a:pt x="432412" y="165253"/>
                </a:lnTo>
                <a:lnTo>
                  <a:pt x="435167" y="107415"/>
                </a:lnTo>
                <a:lnTo>
                  <a:pt x="377328" y="88135"/>
                </a:lnTo>
                <a:lnTo>
                  <a:pt x="341523" y="33051"/>
                </a:lnTo>
                <a:lnTo>
                  <a:pt x="291947" y="5509"/>
                </a:lnTo>
                <a:lnTo>
                  <a:pt x="215743" y="14593"/>
                </a:lnTo>
                <a:lnTo>
                  <a:pt x="88135" y="0"/>
                </a:lnTo>
                <a:lnTo>
                  <a:pt x="0" y="550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5" name="Freeform 57"/>
          <p:cNvSpPr/>
          <p:nvPr/>
        </p:nvSpPr>
        <p:spPr>
          <a:xfrm>
            <a:off x="3459240" y="2043000"/>
            <a:ext cx="671400" cy="1116000"/>
          </a:xfrm>
          <a:custGeom>
            <a:avLst/>
            <a:gdLst/>
            <a:ahLst/>
            <a:rect l="l" t="t" r="r" b="b"/>
            <a:pathLst>
              <a:path w="672029" h="1115458">
                <a:moveTo>
                  <a:pt x="27543" y="143219"/>
                </a:moveTo>
                <a:lnTo>
                  <a:pt x="55085" y="236863"/>
                </a:lnTo>
                <a:lnTo>
                  <a:pt x="46822" y="261651"/>
                </a:lnTo>
                <a:lnTo>
                  <a:pt x="55085" y="297455"/>
                </a:lnTo>
                <a:lnTo>
                  <a:pt x="101906" y="275422"/>
                </a:lnTo>
                <a:lnTo>
                  <a:pt x="118432" y="324998"/>
                </a:lnTo>
                <a:lnTo>
                  <a:pt x="99152" y="358048"/>
                </a:lnTo>
                <a:lnTo>
                  <a:pt x="115677" y="473725"/>
                </a:lnTo>
                <a:lnTo>
                  <a:pt x="85381" y="479234"/>
                </a:lnTo>
                <a:lnTo>
                  <a:pt x="19280" y="550843"/>
                </a:lnTo>
                <a:lnTo>
                  <a:pt x="38559" y="630716"/>
                </a:lnTo>
                <a:lnTo>
                  <a:pt x="0" y="677537"/>
                </a:lnTo>
                <a:lnTo>
                  <a:pt x="44068" y="751901"/>
                </a:lnTo>
                <a:lnTo>
                  <a:pt x="33051" y="806985"/>
                </a:lnTo>
                <a:lnTo>
                  <a:pt x="66102" y="848299"/>
                </a:lnTo>
                <a:lnTo>
                  <a:pt x="49576" y="870332"/>
                </a:lnTo>
                <a:lnTo>
                  <a:pt x="126694" y="955713"/>
                </a:lnTo>
                <a:lnTo>
                  <a:pt x="179024" y="1071390"/>
                </a:lnTo>
                <a:lnTo>
                  <a:pt x="242371" y="1030077"/>
                </a:lnTo>
                <a:lnTo>
                  <a:pt x="300210" y="1071390"/>
                </a:lnTo>
                <a:lnTo>
                  <a:pt x="355294" y="1071390"/>
                </a:lnTo>
                <a:lnTo>
                  <a:pt x="374574" y="1115458"/>
                </a:lnTo>
                <a:lnTo>
                  <a:pt x="410379" y="1109949"/>
                </a:lnTo>
                <a:lnTo>
                  <a:pt x="391099" y="804231"/>
                </a:lnTo>
                <a:lnTo>
                  <a:pt x="641733" y="776689"/>
                </a:lnTo>
                <a:lnTo>
                  <a:pt x="672029" y="658258"/>
                </a:lnTo>
                <a:lnTo>
                  <a:pt x="647241" y="550843"/>
                </a:lnTo>
                <a:lnTo>
                  <a:pt x="614191" y="534318"/>
                </a:lnTo>
                <a:lnTo>
                  <a:pt x="622453" y="468217"/>
                </a:lnTo>
                <a:lnTo>
                  <a:pt x="600420" y="426904"/>
                </a:lnTo>
                <a:lnTo>
                  <a:pt x="625208" y="380082"/>
                </a:lnTo>
                <a:lnTo>
                  <a:pt x="517793" y="267159"/>
                </a:lnTo>
                <a:lnTo>
                  <a:pt x="509531" y="173516"/>
                </a:lnTo>
                <a:lnTo>
                  <a:pt x="520547" y="134957"/>
                </a:lnTo>
                <a:lnTo>
                  <a:pt x="484743" y="38559"/>
                </a:lnTo>
                <a:lnTo>
                  <a:pt x="404870" y="41313"/>
                </a:lnTo>
                <a:lnTo>
                  <a:pt x="374574" y="0"/>
                </a:lnTo>
                <a:lnTo>
                  <a:pt x="267159" y="77118"/>
                </a:lnTo>
                <a:lnTo>
                  <a:pt x="201058" y="19279"/>
                </a:lnTo>
                <a:lnTo>
                  <a:pt x="121186" y="52330"/>
                </a:lnTo>
                <a:lnTo>
                  <a:pt x="112923" y="110169"/>
                </a:lnTo>
                <a:lnTo>
                  <a:pt x="27543" y="14321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6" name="Freeform 58"/>
          <p:cNvSpPr/>
          <p:nvPr/>
        </p:nvSpPr>
        <p:spPr>
          <a:xfrm>
            <a:off x="3321000" y="2851200"/>
            <a:ext cx="557280" cy="1065240"/>
          </a:xfrm>
          <a:custGeom>
            <a:avLst/>
            <a:gdLst/>
            <a:ahLst/>
            <a:rect l="l" t="t" r="r" b="b"/>
            <a:pathLst>
              <a:path w="556351" h="1065882">
                <a:moveTo>
                  <a:pt x="173515" y="44068"/>
                </a:moveTo>
                <a:lnTo>
                  <a:pt x="143219" y="0"/>
                </a:lnTo>
                <a:lnTo>
                  <a:pt x="123939" y="79873"/>
                </a:lnTo>
                <a:lnTo>
                  <a:pt x="82626" y="110169"/>
                </a:lnTo>
                <a:lnTo>
                  <a:pt x="90889" y="145974"/>
                </a:lnTo>
                <a:lnTo>
                  <a:pt x="71609" y="179025"/>
                </a:lnTo>
                <a:lnTo>
                  <a:pt x="68855" y="245126"/>
                </a:lnTo>
                <a:lnTo>
                  <a:pt x="68855" y="297456"/>
                </a:lnTo>
                <a:lnTo>
                  <a:pt x="49575" y="360803"/>
                </a:lnTo>
                <a:lnTo>
                  <a:pt x="112922" y="429658"/>
                </a:lnTo>
                <a:lnTo>
                  <a:pt x="96397" y="454446"/>
                </a:lnTo>
                <a:lnTo>
                  <a:pt x="145973" y="523302"/>
                </a:lnTo>
                <a:lnTo>
                  <a:pt x="145973" y="583894"/>
                </a:lnTo>
                <a:lnTo>
                  <a:pt x="90889" y="622453"/>
                </a:lnTo>
                <a:lnTo>
                  <a:pt x="88134" y="691309"/>
                </a:lnTo>
                <a:lnTo>
                  <a:pt x="60592" y="729868"/>
                </a:lnTo>
                <a:lnTo>
                  <a:pt x="57838" y="760164"/>
                </a:lnTo>
                <a:lnTo>
                  <a:pt x="24787" y="762919"/>
                </a:lnTo>
                <a:lnTo>
                  <a:pt x="49575" y="818003"/>
                </a:lnTo>
                <a:lnTo>
                  <a:pt x="57838" y="840037"/>
                </a:lnTo>
                <a:lnTo>
                  <a:pt x="0" y="878596"/>
                </a:lnTo>
                <a:lnTo>
                  <a:pt x="46821" y="911646"/>
                </a:lnTo>
                <a:lnTo>
                  <a:pt x="24787" y="969485"/>
                </a:lnTo>
                <a:lnTo>
                  <a:pt x="44067" y="1065882"/>
                </a:lnTo>
                <a:lnTo>
                  <a:pt x="110168" y="1057620"/>
                </a:lnTo>
                <a:lnTo>
                  <a:pt x="134956" y="1065882"/>
                </a:lnTo>
                <a:lnTo>
                  <a:pt x="187286" y="1013552"/>
                </a:lnTo>
                <a:lnTo>
                  <a:pt x="173515" y="955714"/>
                </a:lnTo>
                <a:lnTo>
                  <a:pt x="228600" y="908892"/>
                </a:lnTo>
                <a:lnTo>
                  <a:pt x="253387" y="933680"/>
                </a:lnTo>
                <a:lnTo>
                  <a:pt x="305718" y="875841"/>
                </a:lnTo>
                <a:lnTo>
                  <a:pt x="313980" y="806986"/>
                </a:lnTo>
                <a:lnTo>
                  <a:pt x="421395" y="760164"/>
                </a:lnTo>
                <a:lnTo>
                  <a:pt x="481987" y="669275"/>
                </a:lnTo>
                <a:lnTo>
                  <a:pt x="556351" y="638979"/>
                </a:lnTo>
                <a:lnTo>
                  <a:pt x="548089" y="305719"/>
                </a:lnTo>
                <a:lnTo>
                  <a:pt x="509530" y="308473"/>
                </a:lnTo>
                <a:lnTo>
                  <a:pt x="484742" y="261651"/>
                </a:lnTo>
                <a:lnTo>
                  <a:pt x="432412" y="267159"/>
                </a:lnTo>
                <a:lnTo>
                  <a:pt x="385590" y="228600"/>
                </a:lnTo>
                <a:lnTo>
                  <a:pt x="319489" y="264405"/>
                </a:lnTo>
                <a:lnTo>
                  <a:pt x="258896" y="134957"/>
                </a:lnTo>
                <a:lnTo>
                  <a:pt x="173515" y="44068"/>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7" name="Freeform 59"/>
          <p:cNvSpPr/>
          <p:nvPr/>
        </p:nvSpPr>
        <p:spPr>
          <a:xfrm>
            <a:off x="3849840" y="2608200"/>
            <a:ext cx="807840" cy="865080"/>
          </a:xfrm>
          <a:custGeom>
            <a:avLst/>
            <a:gdLst/>
            <a:ahLst/>
            <a:rect l="l" t="t" r="r" b="b"/>
            <a:pathLst>
              <a:path w="806986" h="864824">
                <a:moveTo>
                  <a:pt x="0" y="242371"/>
                </a:moveTo>
                <a:lnTo>
                  <a:pt x="8263" y="537073"/>
                </a:lnTo>
                <a:lnTo>
                  <a:pt x="66101" y="542581"/>
                </a:lnTo>
                <a:lnTo>
                  <a:pt x="104660" y="581140"/>
                </a:lnTo>
                <a:lnTo>
                  <a:pt x="77118" y="622453"/>
                </a:lnTo>
                <a:lnTo>
                  <a:pt x="88135" y="652750"/>
                </a:lnTo>
                <a:lnTo>
                  <a:pt x="129448" y="652750"/>
                </a:lnTo>
                <a:lnTo>
                  <a:pt x="170762" y="616945"/>
                </a:lnTo>
                <a:lnTo>
                  <a:pt x="247880" y="721605"/>
                </a:lnTo>
                <a:lnTo>
                  <a:pt x="300210" y="743639"/>
                </a:lnTo>
                <a:lnTo>
                  <a:pt x="316735" y="784952"/>
                </a:lnTo>
                <a:lnTo>
                  <a:pt x="388345" y="784952"/>
                </a:lnTo>
                <a:lnTo>
                  <a:pt x="407624" y="765673"/>
                </a:lnTo>
                <a:lnTo>
                  <a:pt x="443429" y="793215"/>
                </a:lnTo>
                <a:lnTo>
                  <a:pt x="534318" y="768427"/>
                </a:lnTo>
                <a:lnTo>
                  <a:pt x="559106" y="790461"/>
                </a:lnTo>
                <a:lnTo>
                  <a:pt x="652750" y="787706"/>
                </a:lnTo>
                <a:lnTo>
                  <a:pt x="661012" y="823511"/>
                </a:lnTo>
                <a:lnTo>
                  <a:pt x="782198" y="864824"/>
                </a:lnTo>
                <a:lnTo>
                  <a:pt x="806986" y="0"/>
                </a:lnTo>
                <a:lnTo>
                  <a:pt x="493005" y="24788"/>
                </a:lnTo>
                <a:lnTo>
                  <a:pt x="506776" y="203812"/>
                </a:lnTo>
                <a:lnTo>
                  <a:pt x="261651" y="206567"/>
                </a:lnTo>
                <a:lnTo>
                  <a:pt x="0" y="242371"/>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8" name="Freeform 60"/>
          <p:cNvSpPr/>
          <p:nvPr/>
        </p:nvSpPr>
        <p:spPr>
          <a:xfrm>
            <a:off x="4632480" y="2316240"/>
            <a:ext cx="1096920" cy="1512720"/>
          </a:xfrm>
          <a:custGeom>
            <a:avLst/>
            <a:gdLst/>
            <a:ahLst/>
            <a:rect l="l" t="t" r="r" b="b"/>
            <a:pathLst>
              <a:path w="1096178" h="1512065">
                <a:moveTo>
                  <a:pt x="829019" y="143220"/>
                </a:moveTo>
                <a:lnTo>
                  <a:pt x="575631" y="55085"/>
                </a:lnTo>
                <a:lnTo>
                  <a:pt x="539826" y="0"/>
                </a:lnTo>
                <a:lnTo>
                  <a:pt x="457200" y="2755"/>
                </a:lnTo>
                <a:lnTo>
                  <a:pt x="297455" y="190041"/>
                </a:lnTo>
                <a:lnTo>
                  <a:pt x="110168" y="162499"/>
                </a:lnTo>
                <a:lnTo>
                  <a:pt x="24788" y="179024"/>
                </a:lnTo>
                <a:lnTo>
                  <a:pt x="19279" y="302964"/>
                </a:lnTo>
                <a:lnTo>
                  <a:pt x="0" y="1445964"/>
                </a:lnTo>
                <a:lnTo>
                  <a:pt x="55084" y="1459735"/>
                </a:lnTo>
                <a:lnTo>
                  <a:pt x="126694" y="1512065"/>
                </a:lnTo>
                <a:lnTo>
                  <a:pt x="165253" y="1454227"/>
                </a:lnTo>
                <a:lnTo>
                  <a:pt x="140465" y="1385371"/>
                </a:lnTo>
                <a:lnTo>
                  <a:pt x="154236" y="1258677"/>
                </a:lnTo>
                <a:lnTo>
                  <a:pt x="206566" y="1275203"/>
                </a:lnTo>
                <a:lnTo>
                  <a:pt x="203812" y="1217364"/>
                </a:lnTo>
                <a:lnTo>
                  <a:pt x="165253" y="1143000"/>
                </a:lnTo>
                <a:lnTo>
                  <a:pt x="140465" y="1098933"/>
                </a:lnTo>
                <a:lnTo>
                  <a:pt x="148727" y="1046603"/>
                </a:lnTo>
                <a:lnTo>
                  <a:pt x="209320" y="1087916"/>
                </a:lnTo>
                <a:lnTo>
                  <a:pt x="283684" y="1104441"/>
                </a:lnTo>
                <a:lnTo>
                  <a:pt x="402115" y="1098933"/>
                </a:lnTo>
                <a:lnTo>
                  <a:pt x="652749" y="1054865"/>
                </a:lnTo>
                <a:lnTo>
                  <a:pt x="917154" y="969485"/>
                </a:lnTo>
                <a:lnTo>
                  <a:pt x="936434" y="903384"/>
                </a:lnTo>
                <a:lnTo>
                  <a:pt x="1096178" y="677538"/>
                </a:lnTo>
                <a:lnTo>
                  <a:pt x="1090670" y="578386"/>
                </a:lnTo>
                <a:lnTo>
                  <a:pt x="1052111" y="614191"/>
                </a:lnTo>
                <a:lnTo>
                  <a:pt x="966730" y="545335"/>
                </a:lnTo>
                <a:lnTo>
                  <a:pt x="986009" y="440675"/>
                </a:lnTo>
                <a:lnTo>
                  <a:pt x="1032831" y="391099"/>
                </a:lnTo>
                <a:lnTo>
                  <a:pt x="994272" y="338769"/>
                </a:lnTo>
                <a:lnTo>
                  <a:pt x="862070" y="267159"/>
                </a:lnTo>
                <a:lnTo>
                  <a:pt x="784952" y="192796"/>
                </a:lnTo>
                <a:lnTo>
                  <a:pt x="829019" y="14322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9" name="Freeform 61"/>
          <p:cNvSpPr/>
          <p:nvPr/>
        </p:nvSpPr>
        <p:spPr>
          <a:xfrm>
            <a:off x="3351240" y="3151080"/>
            <a:ext cx="1388880" cy="925560"/>
          </a:xfrm>
          <a:custGeom>
            <a:avLst/>
            <a:gdLst/>
            <a:ahLst/>
            <a:rect l="l" t="t" r="r" b="b"/>
            <a:pathLst>
              <a:path w="1388125" h="925417">
                <a:moveTo>
                  <a:pt x="512284" y="0"/>
                </a:moveTo>
                <a:lnTo>
                  <a:pt x="526055" y="344277"/>
                </a:lnTo>
                <a:lnTo>
                  <a:pt x="443429" y="371819"/>
                </a:lnTo>
                <a:lnTo>
                  <a:pt x="391099" y="468217"/>
                </a:lnTo>
                <a:lnTo>
                  <a:pt x="283684" y="506776"/>
                </a:lnTo>
                <a:lnTo>
                  <a:pt x="278176" y="578386"/>
                </a:lnTo>
                <a:lnTo>
                  <a:pt x="220337" y="636224"/>
                </a:lnTo>
                <a:lnTo>
                  <a:pt x="192795" y="616945"/>
                </a:lnTo>
                <a:lnTo>
                  <a:pt x="134957" y="658258"/>
                </a:lnTo>
                <a:lnTo>
                  <a:pt x="154236" y="710588"/>
                </a:lnTo>
                <a:lnTo>
                  <a:pt x="90889" y="765672"/>
                </a:lnTo>
                <a:lnTo>
                  <a:pt x="66101" y="760164"/>
                </a:lnTo>
                <a:lnTo>
                  <a:pt x="8263" y="768427"/>
                </a:lnTo>
                <a:lnTo>
                  <a:pt x="0" y="812494"/>
                </a:lnTo>
                <a:lnTo>
                  <a:pt x="30296" y="834528"/>
                </a:lnTo>
                <a:lnTo>
                  <a:pt x="19279" y="892366"/>
                </a:lnTo>
                <a:lnTo>
                  <a:pt x="63347" y="925417"/>
                </a:lnTo>
                <a:lnTo>
                  <a:pt x="1030077" y="864824"/>
                </a:lnTo>
                <a:lnTo>
                  <a:pt x="1049357" y="815248"/>
                </a:lnTo>
                <a:lnTo>
                  <a:pt x="1019060" y="710588"/>
                </a:lnTo>
                <a:lnTo>
                  <a:pt x="1010798" y="658258"/>
                </a:lnTo>
                <a:lnTo>
                  <a:pt x="1063128" y="616945"/>
                </a:lnTo>
                <a:lnTo>
                  <a:pt x="1090670" y="647241"/>
                </a:lnTo>
                <a:lnTo>
                  <a:pt x="1206347" y="688554"/>
                </a:lnTo>
                <a:lnTo>
                  <a:pt x="1308253" y="699571"/>
                </a:lnTo>
                <a:lnTo>
                  <a:pt x="1388125" y="680292"/>
                </a:lnTo>
                <a:lnTo>
                  <a:pt x="1366091" y="638978"/>
                </a:lnTo>
                <a:lnTo>
                  <a:pt x="1311007" y="616945"/>
                </a:lnTo>
                <a:lnTo>
                  <a:pt x="1286219" y="614190"/>
                </a:lnTo>
                <a:lnTo>
                  <a:pt x="1280711" y="319489"/>
                </a:lnTo>
                <a:lnTo>
                  <a:pt x="1151263" y="278176"/>
                </a:lnTo>
                <a:lnTo>
                  <a:pt x="1148508" y="245125"/>
                </a:lnTo>
                <a:lnTo>
                  <a:pt x="1057619" y="253388"/>
                </a:lnTo>
                <a:lnTo>
                  <a:pt x="1032831" y="228600"/>
                </a:lnTo>
                <a:lnTo>
                  <a:pt x="917154" y="253388"/>
                </a:lnTo>
                <a:lnTo>
                  <a:pt x="895120" y="220337"/>
                </a:lnTo>
                <a:lnTo>
                  <a:pt x="881349" y="242371"/>
                </a:lnTo>
                <a:lnTo>
                  <a:pt x="806985" y="239617"/>
                </a:lnTo>
                <a:lnTo>
                  <a:pt x="776689" y="198304"/>
                </a:lnTo>
                <a:lnTo>
                  <a:pt x="740884" y="181778"/>
                </a:lnTo>
                <a:lnTo>
                  <a:pt x="658258" y="74364"/>
                </a:lnTo>
                <a:lnTo>
                  <a:pt x="611436" y="107415"/>
                </a:lnTo>
                <a:lnTo>
                  <a:pt x="578385" y="90889"/>
                </a:lnTo>
                <a:lnTo>
                  <a:pt x="600419" y="38559"/>
                </a:lnTo>
                <a:lnTo>
                  <a:pt x="567369" y="0"/>
                </a:lnTo>
                <a:lnTo>
                  <a:pt x="512284"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0" name="Freeform 62"/>
          <p:cNvSpPr/>
          <p:nvPr/>
        </p:nvSpPr>
        <p:spPr>
          <a:xfrm>
            <a:off x="3324240" y="4010040"/>
            <a:ext cx="1157400" cy="869760"/>
          </a:xfrm>
          <a:custGeom>
            <a:avLst/>
            <a:gdLst/>
            <a:ahLst/>
            <a:rect l="l" t="t" r="r" b="b"/>
            <a:pathLst>
              <a:path w="1156771" h="870332">
                <a:moveTo>
                  <a:pt x="85380" y="68855"/>
                </a:moveTo>
                <a:lnTo>
                  <a:pt x="11017" y="104660"/>
                </a:lnTo>
                <a:lnTo>
                  <a:pt x="44067" y="190041"/>
                </a:lnTo>
                <a:lnTo>
                  <a:pt x="0" y="234108"/>
                </a:lnTo>
                <a:lnTo>
                  <a:pt x="63347" y="267159"/>
                </a:lnTo>
                <a:lnTo>
                  <a:pt x="68855" y="294701"/>
                </a:lnTo>
                <a:lnTo>
                  <a:pt x="101906" y="316735"/>
                </a:lnTo>
                <a:lnTo>
                  <a:pt x="74364" y="347031"/>
                </a:lnTo>
                <a:lnTo>
                  <a:pt x="126694" y="418641"/>
                </a:lnTo>
                <a:lnTo>
                  <a:pt x="99152" y="451691"/>
                </a:lnTo>
                <a:lnTo>
                  <a:pt x="99152" y="537072"/>
                </a:lnTo>
                <a:lnTo>
                  <a:pt x="123940" y="553597"/>
                </a:lnTo>
                <a:lnTo>
                  <a:pt x="187287" y="553597"/>
                </a:lnTo>
                <a:lnTo>
                  <a:pt x="234108" y="570123"/>
                </a:lnTo>
                <a:lnTo>
                  <a:pt x="198303" y="622453"/>
                </a:lnTo>
                <a:lnTo>
                  <a:pt x="170761" y="611436"/>
                </a:lnTo>
                <a:lnTo>
                  <a:pt x="148727" y="627961"/>
                </a:lnTo>
                <a:lnTo>
                  <a:pt x="99152" y="614190"/>
                </a:lnTo>
                <a:lnTo>
                  <a:pt x="66101" y="638978"/>
                </a:lnTo>
                <a:lnTo>
                  <a:pt x="110168" y="666520"/>
                </a:lnTo>
                <a:lnTo>
                  <a:pt x="176270" y="672029"/>
                </a:lnTo>
                <a:lnTo>
                  <a:pt x="206566" y="735376"/>
                </a:lnTo>
                <a:lnTo>
                  <a:pt x="176270" y="773935"/>
                </a:lnTo>
                <a:lnTo>
                  <a:pt x="148727" y="776689"/>
                </a:lnTo>
                <a:lnTo>
                  <a:pt x="137711" y="823511"/>
                </a:lnTo>
                <a:lnTo>
                  <a:pt x="190041" y="870332"/>
                </a:lnTo>
                <a:lnTo>
                  <a:pt x="732621" y="831773"/>
                </a:lnTo>
                <a:lnTo>
                  <a:pt x="826265" y="663766"/>
                </a:lnTo>
                <a:lnTo>
                  <a:pt x="867578" y="655503"/>
                </a:lnTo>
                <a:lnTo>
                  <a:pt x="873087" y="614190"/>
                </a:lnTo>
                <a:lnTo>
                  <a:pt x="922662" y="594911"/>
                </a:lnTo>
                <a:lnTo>
                  <a:pt x="991518" y="630715"/>
                </a:lnTo>
                <a:lnTo>
                  <a:pt x="1019060" y="594911"/>
                </a:lnTo>
                <a:lnTo>
                  <a:pt x="983255" y="578385"/>
                </a:lnTo>
                <a:lnTo>
                  <a:pt x="1002535" y="545335"/>
                </a:lnTo>
                <a:lnTo>
                  <a:pt x="1076899" y="490250"/>
                </a:lnTo>
                <a:lnTo>
                  <a:pt x="1038340" y="440674"/>
                </a:lnTo>
                <a:lnTo>
                  <a:pt x="1060373" y="415887"/>
                </a:lnTo>
                <a:lnTo>
                  <a:pt x="1035585" y="385590"/>
                </a:lnTo>
                <a:lnTo>
                  <a:pt x="1019060" y="347031"/>
                </a:lnTo>
                <a:lnTo>
                  <a:pt x="1076899" y="258896"/>
                </a:lnTo>
                <a:lnTo>
                  <a:pt x="1156771" y="220337"/>
                </a:lnTo>
                <a:lnTo>
                  <a:pt x="1068636" y="170761"/>
                </a:lnTo>
                <a:lnTo>
                  <a:pt x="1087915" y="129448"/>
                </a:lnTo>
                <a:lnTo>
                  <a:pt x="1140246" y="104660"/>
                </a:lnTo>
                <a:lnTo>
                  <a:pt x="1137491" y="55084"/>
                </a:lnTo>
                <a:lnTo>
                  <a:pt x="1107195" y="57838"/>
                </a:lnTo>
                <a:lnTo>
                  <a:pt x="1049356" y="0"/>
                </a:lnTo>
                <a:lnTo>
                  <a:pt x="85380" y="68855"/>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1" name="Freeform 20481"/>
          <p:cNvSpPr/>
          <p:nvPr/>
        </p:nvSpPr>
        <p:spPr>
          <a:xfrm>
            <a:off x="3338640" y="4838760"/>
            <a:ext cx="993600" cy="1258920"/>
          </a:xfrm>
          <a:custGeom>
            <a:avLst/>
            <a:gdLst/>
            <a:ahLst/>
            <a:rect l="l" t="t" r="r" b="b"/>
            <a:pathLst>
              <a:path w="994272" h="1258677">
                <a:moveTo>
                  <a:pt x="159744" y="46822"/>
                </a:moveTo>
                <a:lnTo>
                  <a:pt x="137711" y="79872"/>
                </a:lnTo>
                <a:lnTo>
                  <a:pt x="173516" y="162499"/>
                </a:lnTo>
                <a:lnTo>
                  <a:pt x="129448" y="212075"/>
                </a:lnTo>
                <a:lnTo>
                  <a:pt x="154236" y="264405"/>
                </a:lnTo>
                <a:lnTo>
                  <a:pt x="74364" y="404870"/>
                </a:lnTo>
                <a:lnTo>
                  <a:pt x="107414" y="448937"/>
                </a:lnTo>
                <a:lnTo>
                  <a:pt x="104660" y="479234"/>
                </a:lnTo>
                <a:lnTo>
                  <a:pt x="134956" y="515039"/>
                </a:lnTo>
                <a:lnTo>
                  <a:pt x="99152" y="559106"/>
                </a:lnTo>
                <a:lnTo>
                  <a:pt x="104660" y="614190"/>
                </a:lnTo>
                <a:lnTo>
                  <a:pt x="68855" y="638978"/>
                </a:lnTo>
                <a:lnTo>
                  <a:pt x="38559" y="685800"/>
                </a:lnTo>
                <a:lnTo>
                  <a:pt x="0" y="677537"/>
                </a:lnTo>
                <a:lnTo>
                  <a:pt x="0" y="765672"/>
                </a:lnTo>
                <a:lnTo>
                  <a:pt x="5508" y="831774"/>
                </a:lnTo>
                <a:lnTo>
                  <a:pt x="16525" y="903383"/>
                </a:lnTo>
                <a:lnTo>
                  <a:pt x="2754" y="941942"/>
                </a:lnTo>
                <a:lnTo>
                  <a:pt x="90889" y="1054865"/>
                </a:lnTo>
                <a:lnTo>
                  <a:pt x="162499" y="972239"/>
                </a:lnTo>
                <a:lnTo>
                  <a:pt x="201058" y="997027"/>
                </a:lnTo>
                <a:cubicBezTo>
                  <a:pt x="200140" y="1021815"/>
                  <a:pt x="199221" y="1046602"/>
                  <a:pt x="198303" y="1071390"/>
                </a:cubicBezTo>
                <a:lnTo>
                  <a:pt x="209320" y="1148508"/>
                </a:lnTo>
                <a:lnTo>
                  <a:pt x="223091" y="1167788"/>
                </a:lnTo>
                <a:cubicBezTo>
                  <a:pt x="233190" y="1170542"/>
                  <a:pt x="243345" y="1173097"/>
                  <a:pt x="253388" y="1176051"/>
                </a:cubicBezTo>
                <a:cubicBezTo>
                  <a:pt x="268342" y="1180449"/>
                  <a:pt x="265964" y="1179585"/>
                  <a:pt x="275422" y="1184313"/>
                </a:cubicBezTo>
                <a:lnTo>
                  <a:pt x="302964" y="1247660"/>
                </a:lnTo>
                <a:lnTo>
                  <a:pt x="421395" y="1220118"/>
                </a:lnTo>
                <a:lnTo>
                  <a:pt x="509530" y="1198084"/>
                </a:lnTo>
                <a:lnTo>
                  <a:pt x="655503" y="1250414"/>
                </a:lnTo>
                <a:lnTo>
                  <a:pt x="705079" y="1258677"/>
                </a:lnTo>
                <a:lnTo>
                  <a:pt x="616944" y="1109949"/>
                </a:lnTo>
                <a:lnTo>
                  <a:pt x="567369" y="986010"/>
                </a:lnTo>
                <a:lnTo>
                  <a:pt x="597665" y="952959"/>
                </a:lnTo>
                <a:lnTo>
                  <a:pt x="567369" y="908892"/>
                </a:lnTo>
                <a:lnTo>
                  <a:pt x="625207" y="842790"/>
                </a:lnTo>
                <a:lnTo>
                  <a:pt x="729867" y="793214"/>
                </a:lnTo>
                <a:lnTo>
                  <a:pt x="762918" y="581140"/>
                </a:lnTo>
                <a:lnTo>
                  <a:pt x="878595" y="481988"/>
                </a:lnTo>
                <a:lnTo>
                  <a:pt x="991518" y="352540"/>
                </a:lnTo>
                <a:lnTo>
                  <a:pt x="974993" y="344277"/>
                </a:lnTo>
                <a:lnTo>
                  <a:pt x="994272" y="217583"/>
                </a:lnTo>
                <a:lnTo>
                  <a:pt x="952959" y="192795"/>
                </a:lnTo>
                <a:lnTo>
                  <a:pt x="917154" y="192795"/>
                </a:lnTo>
                <a:lnTo>
                  <a:pt x="889612" y="184533"/>
                </a:lnTo>
                <a:lnTo>
                  <a:pt x="873087" y="209321"/>
                </a:lnTo>
                <a:lnTo>
                  <a:pt x="749147" y="96398"/>
                </a:lnTo>
                <a:lnTo>
                  <a:pt x="713342" y="0"/>
                </a:lnTo>
                <a:lnTo>
                  <a:pt x="159744" y="46822"/>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2" name="TextBox 1"/>
          <p:cNvSpPr/>
          <p:nvPr/>
        </p:nvSpPr>
        <p:spPr>
          <a:xfrm>
            <a:off x="6405480" y="2190600"/>
            <a:ext cx="2522520" cy="3814920"/>
          </a:xfrm>
          <a:prstGeom prst="rect">
            <a:avLst/>
          </a:prstGeom>
          <a:solidFill>
            <a:srgbClr val="ffff66"/>
          </a:solidFill>
          <a:ln w="12600">
            <a:solidFill>
              <a:srgbClr val="00b0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Calibri"/>
                <a:ea typeface="ＭＳ Ｐゴシック"/>
              </a:rPr>
              <a:t>Northeast Province</a:t>
            </a: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haco</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Formosa</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orrientes y Misiones</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FORMOS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ORTHEAST NATIONAL UNIVERSITY</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UNIVERSIDAD NACIONAL DE MISIONES</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p:txBody>
      </p:sp>
      <p:sp>
        <p:nvSpPr>
          <p:cNvPr id="1143" name="TextBox 2"/>
          <p:cNvSpPr/>
          <p:nvPr/>
        </p:nvSpPr>
        <p:spPr>
          <a:xfrm>
            <a:off x="5189400" y="760320"/>
            <a:ext cx="121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e15f00"/>
                </a:solidFill>
                <a:latin typeface="Verdana"/>
              </a:rPr>
              <a:t>3 HEIS</a:t>
            </a:r>
            <a:endParaRPr b="1" lang="en-US" sz="2000" spc="-1" strike="noStrike">
              <a:solidFill>
                <a:srgbClr val="ffd624"/>
              </a:solidFill>
              <a:latin typeface="Verdana"/>
            </a:endParaRPr>
          </a:p>
        </p:txBody>
      </p:sp>
      <p:sp>
        <p:nvSpPr>
          <p:cNvPr id="1144" name="TextBox 46"/>
          <p:cNvSpPr/>
          <p:nvPr/>
        </p:nvSpPr>
        <p:spPr>
          <a:xfrm>
            <a:off x="3522600" y="720720"/>
            <a:ext cx="123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00"/>
                </a:solidFill>
                <a:latin typeface="Verdana"/>
              </a:rPr>
              <a:t>5 HEIs</a:t>
            </a: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42"/>
                                        </p:tgtEl>
                                        <p:attrNameLst>
                                          <p:attrName>style.visibility</p:attrName>
                                        </p:attrNameLst>
                                      </p:cBhvr>
                                      <p:to>
                                        <p:strVal val="visible"/>
                                      </p:to>
                                    </p:set>
                                    <p:animEffect filter="wipe(down)" transition="in">
                                      <p:cBhvr additive="repl">
                                        <p:cTn id="7" dur="500"/>
                                        <p:tgtEl>
                                          <p:spTgt spid="1142"/>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125"/>
                                        </p:tgtEl>
                                        <p:attrNameLst>
                                          <p:attrName>style.visibility</p:attrName>
                                        </p:attrNameLst>
                                      </p:cBhvr>
                                      <p:to>
                                        <p:strVal val="visible"/>
                                      </p:to>
                                    </p:set>
                                    <p:animEffect filter="wipe(down)" transition="in">
                                      <p:cBhvr additive="repl">
                                        <p:cTn id="11" dur="500"/>
                                        <p:tgtEl>
                                          <p:spTgt spid="1125"/>
                                        </p:tgtEl>
                                      </p:cBhvr>
                                    </p:animEffect>
                                  </p:childTnLst>
                                </p:cTn>
                              </p:par>
                              <p:par>
                                <p:cTn id="12" nodeType="withEffect" fill="hold" presetClass="entr" presetID="22" presetSubtype="4">
                                  <p:stCondLst>
                                    <p:cond delay="0"/>
                                  </p:stCondLst>
                                  <p:childTnLst>
                                    <p:set>
                                      <p:cBhvr>
                                        <p:cTn id="13" dur="1" fill="hold">
                                          <p:stCondLst>
                                            <p:cond delay="0"/>
                                          </p:stCondLst>
                                        </p:cTn>
                                        <p:tgtEl>
                                          <p:spTgt spid="1124"/>
                                        </p:tgtEl>
                                        <p:attrNameLst>
                                          <p:attrName>style.visibility</p:attrName>
                                        </p:attrNameLst>
                                      </p:cBhvr>
                                      <p:to>
                                        <p:strVal val="visible"/>
                                      </p:to>
                                    </p:set>
                                    <p:animEffect filter="wipe(down)" transition="in">
                                      <p:cBhvr additive="repl">
                                        <p:cTn id="14" dur="500"/>
                                        <p:tgtEl>
                                          <p:spTgt spid="1124"/>
                                        </p:tgtEl>
                                      </p:cBhvr>
                                    </p:animEffect>
                                  </p:childTnLst>
                                </p:cTn>
                              </p:par>
                              <p:par>
                                <p:cTn id="15" nodeType="withEffect" fill="hold" presetClass="entr" presetID="22" presetSubtype="4">
                                  <p:stCondLst>
                                    <p:cond delay="0"/>
                                  </p:stCondLst>
                                  <p:childTnLst>
                                    <p:set>
                                      <p:cBhvr>
                                        <p:cTn id="16" dur="1" fill="hold">
                                          <p:stCondLst>
                                            <p:cond delay="0"/>
                                          </p:stCondLst>
                                        </p:cTn>
                                        <p:tgtEl>
                                          <p:spTgt spid="1129"/>
                                        </p:tgtEl>
                                        <p:attrNameLst>
                                          <p:attrName>style.visibility</p:attrName>
                                        </p:attrNameLst>
                                      </p:cBhvr>
                                      <p:to>
                                        <p:strVal val="visible"/>
                                      </p:to>
                                    </p:set>
                                    <p:animEffect filter="wipe(down)" transition="in">
                                      <p:cBhvr additive="repl">
                                        <p:cTn id="17" dur="500"/>
                                        <p:tgtEl>
                                          <p:spTgt spid="1129"/>
                                        </p:tgtEl>
                                      </p:cBhvr>
                                    </p:animEffect>
                                  </p:childTnLst>
                                </p:cTn>
                              </p:par>
                              <p:par>
                                <p:cTn id="18" nodeType="withEffect" fill="hold" presetClass="entr" presetID="22" presetSubtype="4">
                                  <p:stCondLst>
                                    <p:cond delay="0"/>
                                  </p:stCondLst>
                                  <p:childTnLst>
                                    <p:set>
                                      <p:cBhvr>
                                        <p:cTn id="19" dur="1" fill="hold">
                                          <p:stCondLst>
                                            <p:cond delay="0"/>
                                          </p:stCondLst>
                                        </p:cTn>
                                        <p:tgtEl>
                                          <p:spTgt spid="1130"/>
                                        </p:tgtEl>
                                        <p:attrNameLst>
                                          <p:attrName>style.visibility</p:attrName>
                                        </p:attrNameLst>
                                      </p:cBhvr>
                                      <p:to>
                                        <p:strVal val="visible"/>
                                      </p:to>
                                    </p:set>
                                    <p:animEffect filter="wipe(down)" transition="in">
                                      <p:cBhvr additive="repl">
                                        <p:cTn id="20" dur="500"/>
                                        <p:tgtEl>
                                          <p:spTgt spid="1130"/>
                                        </p:tgtEl>
                                      </p:cBhvr>
                                    </p:animEffect>
                                  </p:childTnLst>
                                </p:cTn>
                              </p:par>
                              <p:par>
                                <p:cTn id="21" nodeType="withEffect" fill="hold" presetClass="entr" presetID="22" presetSubtype="4">
                                  <p:stCondLst>
                                    <p:cond delay="0"/>
                                  </p:stCondLst>
                                  <p:childTnLst>
                                    <p:set>
                                      <p:cBhvr>
                                        <p:cTn id="22" dur="1" fill="hold">
                                          <p:stCondLst>
                                            <p:cond delay="0"/>
                                          </p:stCondLst>
                                        </p:cTn>
                                        <p:tgtEl>
                                          <p:spTgt spid="1143"/>
                                        </p:tgtEl>
                                        <p:attrNameLst>
                                          <p:attrName>style.visibility</p:attrName>
                                        </p:attrNameLst>
                                      </p:cBhvr>
                                      <p:to>
                                        <p:strVal val="visible"/>
                                      </p:to>
                                    </p:set>
                                    <p:animEffect filter="wipe(down)" transition="in">
                                      <p:cBhvr additive="repl">
                                        <p:cTn id="23" dur="500"/>
                                        <p:tgtEl>
                                          <p:spTgt spid="114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119"/>
                                        </p:tgtEl>
                                        <p:attrNameLst>
                                          <p:attrName>style.visibility</p:attrName>
                                        </p:attrNameLst>
                                      </p:cBhvr>
                                      <p:to>
                                        <p:strVal val="visible"/>
                                      </p:to>
                                    </p:set>
                                    <p:animEffect filter="wipe(down)" transition="in">
                                      <p:cBhvr additive="repl">
                                        <p:cTn id="28" dur="500"/>
                                        <p:tgtEl>
                                          <p:spTgt spid="111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1126"/>
                                        </p:tgtEl>
                                        <p:attrNameLst>
                                          <p:attrName>style.visibility</p:attrName>
                                        </p:attrNameLst>
                                      </p:cBhvr>
                                      <p:to>
                                        <p:strVal val="visible"/>
                                      </p:to>
                                    </p:set>
                                    <p:animEffect filter="wipe(down)" transition="in">
                                      <p:cBhvr additive="repl">
                                        <p:cTn id="32" dur="500"/>
                                        <p:tgtEl>
                                          <p:spTgt spid="1126"/>
                                        </p:tgtEl>
                                      </p:cBhvr>
                                    </p:animEffect>
                                  </p:childTnLst>
                                </p:cTn>
                              </p:par>
                              <p:par>
                                <p:cTn id="33" nodeType="withEffect" fill="hold" presetClass="entr" presetID="22" presetSubtype="4">
                                  <p:stCondLst>
                                    <p:cond delay="0"/>
                                  </p:stCondLst>
                                  <p:childTnLst>
                                    <p:set>
                                      <p:cBhvr>
                                        <p:cTn id="34" dur="1" fill="hold">
                                          <p:stCondLst>
                                            <p:cond delay="0"/>
                                          </p:stCondLst>
                                        </p:cTn>
                                        <p:tgtEl>
                                          <p:spTgt spid="1122"/>
                                        </p:tgtEl>
                                        <p:attrNameLst>
                                          <p:attrName>style.visibility</p:attrName>
                                        </p:attrNameLst>
                                      </p:cBhvr>
                                      <p:to>
                                        <p:strVal val="visible"/>
                                      </p:to>
                                    </p:set>
                                    <p:animEffect filter="wipe(down)" transition="in">
                                      <p:cBhvr additive="repl">
                                        <p:cTn id="35" dur="500"/>
                                        <p:tgtEl>
                                          <p:spTgt spid="1122"/>
                                        </p:tgtEl>
                                      </p:cBhvr>
                                    </p:animEffect>
                                  </p:childTnLst>
                                </p:cTn>
                              </p:par>
                              <p:par>
                                <p:cTn id="36" nodeType="withEffect" fill="hold" presetClass="entr" presetID="22" presetSubtype="4">
                                  <p:stCondLst>
                                    <p:cond delay="0"/>
                                  </p:stCondLst>
                                  <p:childTnLst>
                                    <p:set>
                                      <p:cBhvr>
                                        <p:cTn id="37" dur="1" fill="hold">
                                          <p:stCondLst>
                                            <p:cond delay="0"/>
                                          </p:stCondLst>
                                        </p:cTn>
                                        <p:tgtEl>
                                          <p:spTgt spid="1123"/>
                                        </p:tgtEl>
                                        <p:attrNameLst>
                                          <p:attrName>style.visibility</p:attrName>
                                        </p:attrNameLst>
                                      </p:cBhvr>
                                      <p:to>
                                        <p:strVal val="visible"/>
                                      </p:to>
                                    </p:set>
                                    <p:animEffect filter="wipe(down)" transition="in">
                                      <p:cBhvr additive="repl">
                                        <p:cTn id="38" dur="500"/>
                                        <p:tgtEl>
                                          <p:spTgt spid="1123"/>
                                        </p:tgtEl>
                                      </p:cBhvr>
                                    </p:animEffect>
                                  </p:childTnLst>
                                </p:cTn>
                              </p:par>
                              <p:par>
                                <p:cTn id="39" nodeType="withEffect" fill="hold" presetClass="entr" presetID="22" presetSubtype="4">
                                  <p:stCondLst>
                                    <p:cond delay="0"/>
                                  </p:stCondLst>
                                  <p:childTnLst>
                                    <p:set>
                                      <p:cBhvr>
                                        <p:cTn id="40" dur="1" fill="hold">
                                          <p:stCondLst>
                                            <p:cond delay="0"/>
                                          </p:stCondLst>
                                        </p:cTn>
                                        <p:tgtEl>
                                          <p:spTgt spid="1121"/>
                                        </p:tgtEl>
                                        <p:attrNameLst>
                                          <p:attrName>style.visibility</p:attrName>
                                        </p:attrNameLst>
                                      </p:cBhvr>
                                      <p:to>
                                        <p:strVal val="visible"/>
                                      </p:to>
                                    </p:set>
                                    <p:animEffect filter="wipe(down)" transition="in">
                                      <p:cBhvr additive="repl">
                                        <p:cTn id="41" dur="500"/>
                                        <p:tgtEl>
                                          <p:spTgt spid="1121"/>
                                        </p:tgtEl>
                                      </p:cBhvr>
                                    </p:animEffect>
                                  </p:childTnLst>
                                </p:cTn>
                              </p:par>
                              <p:par>
                                <p:cTn id="42" nodeType="withEffect" fill="hold" presetClass="entr" presetID="22" presetSubtype="4">
                                  <p:stCondLst>
                                    <p:cond delay="0"/>
                                  </p:stCondLst>
                                  <p:childTnLst>
                                    <p:set>
                                      <p:cBhvr>
                                        <p:cTn id="43" dur="1" fill="hold">
                                          <p:stCondLst>
                                            <p:cond delay="0"/>
                                          </p:stCondLst>
                                        </p:cTn>
                                        <p:tgtEl>
                                          <p:spTgt spid="1120"/>
                                        </p:tgtEl>
                                        <p:attrNameLst>
                                          <p:attrName>style.visibility</p:attrName>
                                        </p:attrNameLst>
                                      </p:cBhvr>
                                      <p:to>
                                        <p:strVal val="visible"/>
                                      </p:to>
                                    </p:set>
                                    <p:animEffect filter="wipe(down)" transition="in">
                                      <p:cBhvr additive="repl">
                                        <p:cTn id="44" dur="500"/>
                                        <p:tgtEl>
                                          <p:spTgt spid="1120"/>
                                        </p:tgtEl>
                                      </p:cBhvr>
                                    </p:animEffect>
                                  </p:childTnLst>
                                </p:cTn>
                              </p:par>
                              <p:par>
                                <p:cTn id="45" nodeType="withEffect" fill="hold" presetClass="entr" presetID="22" presetSubtype="4">
                                  <p:stCondLst>
                                    <p:cond delay="0"/>
                                  </p:stCondLst>
                                  <p:childTnLst>
                                    <p:set>
                                      <p:cBhvr>
                                        <p:cTn id="46" dur="1" fill="hold">
                                          <p:stCondLst>
                                            <p:cond delay="0"/>
                                          </p:stCondLst>
                                        </p:cTn>
                                        <p:tgtEl>
                                          <p:spTgt spid="1144"/>
                                        </p:tgtEl>
                                        <p:attrNameLst>
                                          <p:attrName>style.visibility</p:attrName>
                                        </p:attrNameLst>
                                      </p:cBhvr>
                                      <p:to>
                                        <p:strVal val="visible"/>
                                      </p:to>
                                    </p:set>
                                    <p:animEffect filter="wipe(down)" transition="in">
                                      <p:cBhvr additive="repl">
                                        <p:cTn id="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Desafíos</a:t>
            </a:r>
            <a:endParaRPr b="1" lang="en-US" sz="3000" spc="-1" strike="noStrike">
              <a:solidFill>
                <a:srgbClr val="0f5494"/>
              </a:solidFill>
              <a:latin typeface="Verdana"/>
            </a:endParaRPr>
          </a:p>
        </p:txBody>
      </p:sp>
      <p:sp>
        <p:nvSpPr>
          <p:cNvPr id="1146"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Desarrollar una cooperación eficiente y duradera</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Contribuir a la mejora del nivel de calidad de los recursos humanos en los países de América Latina</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Atraer y hacer participar el máximo de universidades, de ambos lados, aumentando sus capacidades  para encajar en un  contexto internacional gracias al cual se harán mas visibles y reconocidas</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mudena Saenz de Miera</cp:lastModifiedBy>
  <cp:lastPrinted>2013-12-06T13:47:46Z</cp:lastPrinted>
  <dcterms:modified xsi:type="dcterms:W3CDTF">2014-06-26T02:23:32Z</dcterms:modified>
  <cp:revision>394</cp:revision>
  <dc:subject/>
  <dc:title>Slide 1</dc:title>
</cp:coreProperties>
</file>